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500-52F9-4B4D-98E7-592C94F2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607-7FA7-46C1-AD69-58E37758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C94611-C7E4-46EA-B5FD-948DF180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D6F8CB-D61B-4B51-9C00-3463A4D3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E8462E-84EB-42F4-A3E0-28B3242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ACF713-66AB-4220-8084-FB0A1535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61EF1B-01CC-4C34-9307-4A807B43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E1FCF4-7AFE-4790-88CE-6BEF3AE0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390E80-230F-4820-9764-31AE68E6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B342A9-E84B-4A66-8AEF-D105FD56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7116E0-9AB1-4C69-937A-AB51D02B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216A37-0E82-4972-879D-EED5A177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8DD-2C57-40D8-9543-C7010D1E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4C927E-63A2-4AD3-8A81-4E77B164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27801F-52B9-44AC-AAD9-8ADCD40B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85EB59-CE19-4D80-90FE-7AEBAF6F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751E2A-48C5-4D1F-A481-5FBDE6E9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8EE8B3-D40E-441D-A53F-C7B6CA2E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DBEE83-D878-4613-839A-40B285DC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BB29D4-5D9C-4EEC-A1F7-C0ABC554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290424-5AF0-400F-9A16-BDDCEA3F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7E153E-E3BC-479F-9616-E617E0B2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85F9B3-C78B-443C-9FAA-277D437A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E2C-9B20-4DFF-B4BA-C6CDF484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A4B1BF-1161-48F6-94AC-7D078F29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1D23D1-B518-4B67-98C5-DEA2FF58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F2E2FD-470E-42A5-8215-95F55D8B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60E6BA-3493-4A27-B72E-BEDD4E41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C8C21F-EB30-438B-AB36-04DD44F0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539D9B-49E8-4633-B0D2-1F6A38D7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A58AFD-C1E0-45C7-9F3D-9D1DFE8B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730672-D3DF-4DAC-86D3-0632AE7F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3AC2FD-73D0-4E12-A7CF-276CF60F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ED6845-3E5B-4FC5-B6E9-B79D7FA5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F3FEF-51B1-4297-9DA4-238B55BF9E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A8F6E8-3E3D-4DE0-BAD1-44C4F394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71211D-79B2-468A-8B3B-198FA8D9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0F3C9B-00D5-4A28-B71D-81B26034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47FBB4-BFA7-481B-B711-AFCB5882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570BA0-EA5C-42C9-9413-C8F8F01E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4FEC13-CF3F-459E-84D3-BCA2BC21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BBA366-11BF-42F5-AD60-F77FEE32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B7EF1F-C197-4B27-B690-64637274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627525-C4D4-4767-8372-F5E98610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1F520E-DBC7-4F4C-90E9-904B91C1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B4BDD-149A-4E17-84BC-B08980F2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59557F-3B0A-4794-AC49-0CBA41AC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2A17ED-E276-4AAA-B622-D2BFF3E8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A7E36D-1235-4DF7-AEB9-3F017549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16827A-AEE4-49C3-ABD4-70D5778C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265858-842D-4D39-A9B5-7D4D7BBC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2BA54-B900-4EEB-B2FD-AF1489FF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6FAEC-5894-4F20-99A8-CB83ACB5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4309E-BA08-4D1D-85E6-BF8C9361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2EAA6-A4D9-4FB5-A753-37B5BDCE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405DC-CA37-4640-AFF8-0C6BB500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9CD-2A31-4918-BC68-319247E3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0A3EE-42C6-4446-BDD2-B4F624A0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606DC-6411-4720-959C-7BB54EFA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78BCC-18DA-4D0D-A2EC-E36C1437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69BC4-AB21-4F6D-B3C2-4EA1F5C4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53640-B84A-4DAA-8190-D2D9A3BFBB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F8106-10C3-4156-BA51-C01DEBF4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7CD6C-1F7B-4DF9-8E88-AA83A035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8ADA8-D355-488D-9286-7B75946F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B1FFB-7571-43E2-B195-E3DC93AC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B3428-1B82-4FF1-BDB1-69627F31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057-C7DF-4111-B5D2-69263406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BE07D-A3EB-4A39-82B7-837E7250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D095C-439C-4B13-BE58-5490838F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1B959-591E-472B-AF72-9DE7B65A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FC17C-7A9A-41C4-96B8-BBF84E51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18FEE-27A2-431A-8654-1680A8A1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BA1C6-E67F-42B7-BA78-F9BFD6E5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5EC57-73C9-4B55-9092-DE701C2B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66D9F-F1ED-4AC5-9CA8-CEA46EA6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18CFF-C6DE-4180-B44C-78012F67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12C4DA-C5D7-4B20-84EB-B8A332B8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220-BF71-413A-8C96-F754123B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5AEF4B-851D-4C9A-9E41-34CA1424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019FDE-A355-46B4-878A-7A71F2B3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86680-6022-4C54-A859-DCF667B1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78A1A-3634-4715-99CB-349054E4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68171-E4DE-4148-BFD9-129A6638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72367B-6368-4D19-A86D-2ACA0559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AB6DE-7C71-4260-B782-9C51D334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E2BDF3-BF97-48B1-B762-F5E0E523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6EAA42-046B-441C-81D6-3B53D8E8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F36E8-9D4E-45F5-9559-B8950C4D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793-C7EF-4753-870A-4827D880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8AE53-144D-4F0E-91AF-264A62C0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E01A9-AFBA-4F25-B2CA-CB65C736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F701C-8B45-490A-B58A-2032B64C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CBC17-5CE8-45E0-9DCF-164DDE7A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BCB32-41D0-4266-B0B6-B39D318C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0A1AA-F54F-4DC9-BC1C-D4BB17CB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93A25-846F-4F0F-BFEB-572F2638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28AA5-33B4-47E8-BF7F-D3BB238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18EAB-956F-4A76-AE27-517DE3AB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62320-C51C-49B6-9A7C-2F632A2A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F3C-7411-426E-A5E4-3B332110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6EE72-EF42-4E47-BC32-64C0499E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0D2D35-1F83-4BED-A610-33C47055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412AA-5116-48AF-984F-6587753E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12729-8EB4-403B-9EF4-015C1A53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62088-CC4A-47FA-AADE-0B101A42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69074-40F2-4C35-9B93-A0F4D5B4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CF419-98AF-4CB6-A149-F531F8DB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14FCF-471C-46C8-9DD7-8561DE80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135BB-128A-41A3-B124-6FBC3352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051BC-13D5-4030-B121-8AACAFAC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DFB-5D01-490A-BC85-E911E50C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BAC63-3585-4B53-86C0-1B43A8EF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818FD-5942-4D52-96DB-989C397D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932E5-E82C-453F-9D19-EDD8DBE4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6D45E-BE39-4324-A0B8-D0DBE3E9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A8A2CD-0669-4A6A-AE04-20515D18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EF50C-3448-4FFB-9688-38ECCCF1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E51A0-C800-4916-8F76-5BBCB688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9CFAD-9775-4EED-A99E-03202F78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C3B6B3-68B5-4E76-AD83-EBDF09DE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5080F-6837-4627-9676-A5DA085E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77A-6C61-4C22-922E-80D3F0A5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9CF6C-64CC-4CFF-BB67-FD2BC790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AF0BB-FF15-4B95-A467-607404AB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10AE16-6D57-4220-9F22-70FCA460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3DDB01-20FA-48B7-A4EA-B177060C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E7FAC-1A13-4C80-A3A6-BF7DF773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D69EA1-F8FE-4F39-A244-1EBC5F74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3FC2FB-959A-42E7-83CE-4F06B89B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A17DE-71D3-4C5D-938B-868EB7CA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74937B-A50D-4DD1-96B5-938DD7C2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A2DED6-4DEF-47FC-AE0F-0D0C43C9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FDC1-2FEB-44B6-9D1A-6B1F0644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7E4ECA-DDDB-4701-8449-306291B7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655065-A1F5-41FD-8524-EA898756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1DB90B-2104-44BD-8DA0-BC24EA87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C66F63-C668-4261-9165-4E7780B5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4800DE-BF7B-4A2F-9C30-222CA89A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789177-F6AA-427F-8B5D-53AEA97C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B5BCE7-B27E-4C56-88B5-1B0F9F0B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AAFFBD-3E97-46A3-8575-8B7515F8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977751-12C1-425D-A8AE-7FA2C8DF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DC146A-C77D-41A1-BE38-9521B195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2830-FEA3-4B14-B07A-1F4E6A69CDB5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418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8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91AF-0AA2-4F9D-ADC4-E1A48C02AE19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464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1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76EB-B030-47E0-87D1-8F33CC39FBAE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510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4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93A8-4A48-4854-AE57-CE319DD53D2B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AF94-08BA-477D-8219-CFDE276B5816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94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0" y="1566720"/>
            <a:ext cx="9144000" cy="4597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0"/>
          <p:cNvSpPr/>
          <p:nvPr/>
        </p:nvSpPr>
        <p:spPr>
          <a:xfrm>
            <a:off x="0" y="156672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527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6378-6F60-4DEB-B080-BD72538A892F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142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0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5EF6-5623-4530-96D8-089B5E64434C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188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FBE1-1414-4208-A612-CF85942F4881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9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3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473A-60BE-49E2-AE5D-67FFFD06B0C1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234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9559-184F-4042-BA12-4C7F01985F4A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9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6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ADCE-5AD7-49E5-9C50-EC36531D93FA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280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A963-A41F-4D10-8EB7-A5194D106CFD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9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9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5B45-D49A-46D9-96FA-F68DE541BCBA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326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A022-89DE-4A24-A1D8-ABA3951D6130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9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3EF1-D95E-4A06-8081-52D49ECBB683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372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5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1.2-08/2/A/KMR-2009-0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4298-E57E-47E0-BB7C-ACA35EAC91F1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1558800"/>
            <a:ext cx="9144000" cy="14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Új tehetséggondozó programok és kutatások a Műegyetem tudományos műhelyeibe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zövegdoboz 5"/>
          <p:cNvSpPr/>
          <p:nvPr/>
        </p:nvSpPr>
        <p:spPr>
          <a:xfrm>
            <a:off x="2010960" y="2882880"/>
            <a:ext cx="43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MOP-4.2.2/B-10/1-2010-0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zövegdoboz 1"/>
          <p:cNvSpPr/>
          <p:nvPr/>
        </p:nvSpPr>
        <p:spPr>
          <a:xfrm>
            <a:off x="122400" y="326880"/>
            <a:ext cx="641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UDAPESTI MŰSZAKI ÉS GAZDASÁGTUDOMÁNYI EGYE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GYESÜLT INNOVÁCIÓS ÉS TUDÁSKÖZP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űegyetemi Tudományos Műhelyek és Tehetséggondozás Projektir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zövegdoboz 1"/>
          <p:cNvSpPr/>
          <p:nvPr/>
        </p:nvSpPr>
        <p:spPr>
          <a:xfrm>
            <a:off x="3191040" y="34210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ornyánszky Gá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8" descr="D:\HGabor\TÁMOP-422B10-1\kozponti.JPG"/>
          <p:cNvPicPr/>
          <p:nvPr/>
        </p:nvPicPr>
        <p:blipFill>
          <a:blip r:embed="rId1"/>
          <a:stretch/>
        </p:blipFill>
        <p:spPr>
          <a:xfrm>
            <a:off x="2679840" y="3790800"/>
            <a:ext cx="348768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Eszközbeszerz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163520" y="1631880"/>
          <a:ext cx="6370920" cy="4510080"/>
        </p:xfrm>
        <a:graphic>
          <a:graphicData uri="http://schemas.openxmlformats.org/drawingml/2006/table">
            <a:tbl>
              <a:tblPr/>
              <a:tblGrid>
                <a:gridCol w="3408480"/>
                <a:gridCol w="355680"/>
                <a:gridCol w="368280"/>
                <a:gridCol w="1036440"/>
                <a:gridCol w="1202040"/>
              </a:tblGrid>
              <a:tr h="19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ipch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ot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gós bőrfo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árgyaló szé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dai ülőbútor (ülőgarnitúr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odai ülőbútorok (irodai széke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árgyalóasz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ekré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é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bo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éptető rendsz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ális fényképezőgé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o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bo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56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on Stylus Pro 7900 (nagyteljestményű nyomtat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5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5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CD moni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boo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funkciós nyomtat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nyképezőgé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GB-os pendr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GB-os pendr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izáló táb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 p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00 000 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84" name="Élőláb helye 3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41280" y="266400"/>
            <a:ext cx="59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Előttünk álló feladat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51920" y="1839600"/>
            <a:ext cx="92235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költségvetés aktualizál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Minél szélesebb körű kommuniká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szközbeszerzések lebonyolí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Járulékos költségek térítési módjának kidolgoz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pályázat végrehajtásának biztosí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276200" y="1903320"/>
            <a:ext cx="640080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Köszönöm a figyelme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7" descr="virag-4"/>
          <p:cNvPicPr/>
          <p:nvPr/>
        </p:nvPicPr>
        <p:blipFill>
          <a:blip r:embed="rId1"/>
          <a:stretch/>
        </p:blipFill>
        <p:spPr>
          <a:xfrm>
            <a:off x="1587600" y="3394080"/>
            <a:ext cx="2403360" cy="18763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virag-1"/>
          <p:cNvPicPr/>
          <p:nvPr/>
        </p:nvPicPr>
        <p:blipFill>
          <a:blip r:embed="rId2"/>
          <a:stretch/>
        </p:blipFill>
        <p:spPr>
          <a:xfrm>
            <a:off x="5076720" y="2943360"/>
            <a:ext cx="2219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émakörö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pályázat felépíté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projekt pénzügyi te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Karok szerinti felosz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Pénzügyi ütemez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Képzések jegyzé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szközbeszerzés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lőttünk álló feladat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 pályázat felépíté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Doktori Iskol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Doktorandusz hallgatók foglalkoz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Doktorjelöltek foglalkoz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Posztdoktori alkalmaz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Felkészítését segítő oktatók támog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ehetség támogat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onferencia részvétel támog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Saját konferencia szervez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ülföldi előadók meghívása doktori képzés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Élőláb helye 3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 pályázat felépíté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zakkollég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épzések (tanfolyamok, tréningek) indí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anulmányutak szervezé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Szakmai kirándulások szervezé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anulmányi versenyek rendezé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Szakmai könyvtárfejlesz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onferencia részvétel támog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Eszközbeszerz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Élőláb helye 3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 pályázat felépíté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udományos Diákkö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ematikus TDK pályázat hirdeté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DK munkák jutalmaz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DK web-portál fejlesz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ematikus workshop szervezé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anulmányutak szervezé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onferencia részvétel támog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DK munkát irányító oktatók támog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Élőláb helye 3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Menedzsment költsége: 97 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Publikációs adatbázis fejlesztés: 1 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zuperszámítógép beszerzés: 76,5 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Doktori iskolák: 399,4 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DK: 28,2 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zakkollégiumok: 57,4 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artalék: 23,8 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Élőláb helye 3"/>
          <p:cNvSpPr/>
          <p:nvPr/>
        </p:nvSpPr>
        <p:spPr>
          <a:xfrm>
            <a:off x="2854440" y="6356520"/>
            <a:ext cx="316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zövegdoboz 4"/>
          <p:cNvSpPr/>
          <p:nvPr/>
        </p:nvSpPr>
        <p:spPr>
          <a:xfrm>
            <a:off x="504720" y="423720"/>
            <a:ext cx="51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 projekt pénzügyi t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2" name=""/>
          <p:cNvGraphicFramePr/>
          <p:nvPr/>
        </p:nvGraphicFramePr>
        <p:xfrm>
          <a:off x="463680" y="1979640"/>
          <a:ext cx="8229600" cy="3332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ktori Isk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zakkollég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pítészmérnöki K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pítőmérnöki K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zdaságtudományi K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épészmérnöki K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özlekedésmérnöki K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észettudományi K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yészmérnöki K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llamosmérnöki K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73" name="Élőláb helye 3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zövegdoboz 4"/>
          <p:cNvSpPr/>
          <p:nvPr/>
        </p:nvSpPr>
        <p:spPr>
          <a:xfrm>
            <a:off x="409680" y="436680"/>
            <a:ext cx="54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Karok szerinti feloszt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énzügyi ütemez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15920" y="1671480"/>
          <a:ext cx="8877240" cy="4278600"/>
        </p:xfrm>
        <a:graphic>
          <a:graphicData uri="http://schemas.openxmlformats.org/drawingml/2006/table">
            <a:tbl>
              <a:tblPr/>
              <a:tblGrid>
                <a:gridCol w="852480"/>
                <a:gridCol w="765000"/>
                <a:gridCol w="220680"/>
                <a:gridCol w="611280"/>
                <a:gridCol w="166680"/>
                <a:gridCol w="611280"/>
                <a:gridCol w="103320"/>
                <a:gridCol w="674640"/>
                <a:gridCol w="182520"/>
                <a:gridCol w="677880"/>
                <a:gridCol w="115920"/>
                <a:gridCol w="715680"/>
                <a:gridCol w="795600"/>
                <a:gridCol w="795240"/>
                <a:gridCol w="795240"/>
                <a:gridCol w="793800"/>
              </a:tblGrid>
              <a:tr h="916200">
                <a:tc rowSpan="2"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őszakok-támogatható tevékenység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 előkészítés költség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 menedzsment költség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ctr">
                      <a:noAutofit/>
                    </a:bodyPr>
                    <a:p>
                      <a:pPr marL="63360" indent="-633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 szakmai megvalósításával összefüggő költség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élcsoport számára biztosított támogatás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kt megvalósításához igénybevett szolgáltatás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éb szolgáltatás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F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éb, a projekt végrehajtásával összefüggő (általános) költsé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Összes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Összesen évek szer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v (Ft-b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v (Ft-b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v (Ft-b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v (Ft-b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v (Ft-b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v (Ft-b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v (Ft-b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v (Ft-b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v (Ft-b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v (Ft-b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0120">
                <a:tc>
                  <a:txBody>
                    <a:bodyPr lIns="29880" rIns="2988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. I. félé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29880" rIns="29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 003 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29880" rIns="2988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. II. félé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7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146 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386 6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254 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716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9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 930 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 330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>
                  <a:txBody>
                    <a:bodyPr lIns="29880" rIns="2988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. I. félé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20 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435 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 890 8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124 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 448 9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29880" rIns="29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 190 2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320">
                <a:tc>
                  <a:txBody>
                    <a:bodyPr lIns="29880" rIns="2988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. II. félé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20 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627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 160 5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561 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 519 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>
                  <a:txBody>
                    <a:bodyPr lIns="29880" rIns="2988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. I. félé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20 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625 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 532 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89 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 990 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29880" rIns="29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 291 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7760">
                <a:tc>
                  <a:txBody>
                    <a:bodyPr lIns="29880" rIns="29880" tIns="0" bIns="0" anchor="t">
                      <a:noAutofit/>
                    </a:bodyPr>
                    <a:p>
                      <a:pPr marL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. II. félé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73 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51 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573 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5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196 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talé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794 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794 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7760">
                <a:tc>
                  <a:txBody>
                    <a:bodyPr lIns="29880" rIns="298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Összes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7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880 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 126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 411 3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 416 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 980 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3 28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9880" rIns="298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3 28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77" name="Élőláb helye 3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Képzések jegyzé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Élőláb helye 3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Tartalom helye 4"/>
          <p:cNvGraphicFramePr/>
          <p:nvPr/>
        </p:nvGraphicFramePr>
        <p:xfrm>
          <a:off x="544680" y="1289160"/>
          <a:ext cx="8369280" cy="50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1" name="Tartalom helye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1289160"/>
                    <a:ext cx="8369280" cy="50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3:35:31Z</dcterms:created>
  <dc:creator>Nagy Bence</dc:creator>
  <dc:description/>
  <dc:language>en-US</dc:language>
  <cp:lastModifiedBy>HGábor</cp:lastModifiedBy>
  <dcterms:modified xsi:type="dcterms:W3CDTF">2011-10-06T21:50:07Z</dcterms:modified>
  <cp:revision>275</cp:revision>
  <dc:subject/>
  <dc:title>1. dia</dc:title>
</cp:coreProperties>
</file>