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3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3.jpeg" ContentType="image/jpeg"/>
  <Override PartName="/ppt/media/image2.jpeg" ContentType="image/jpeg"/>
  <Override PartName="/ppt/media/image26.png" ContentType="image/png"/>
  <Override PartName="/ppt/media/image14.png" ContentType="image/png"/>
  <Override PartName="/ppt/media/image2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dt" idx="36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ftr" idx="37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 type="sldNum" idx="38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3202-50EF-472B-8AD3-F9229F407E6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Dia számának helye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2260-3FF1-4A39-8DB8-A2197415B6B0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2438-133C-47CC-AD7A-DBBC65F0A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45E0-F626-4280-BB15-8C6F096E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E0A463-ABDF-498A-B8FE-93523B8C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63D105-7E2E-43CA-96D2-37D1D1E6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87C214-A1D3-438A-9CE3-2AD3C225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B5C1B4-07E9-4CA9-AF94-86562988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5FC4C6-993B-4D2C-B2D9-BCC5B058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ED0F0F-C8C3-48FC-AA17-DBACB2B9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618DE1-860D-4704-B3E6-DDD1222B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1904F2-B3F6-40A2-82FF-B30A3DF90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54E384-4BBE-409C-A67D-4105132B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A4AFD7-4794-488D-A50D-77B0EAEB3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79C0-D202-4D92-A1BD-4864EAA7D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767375-B002-4CFF-967F-5DE4D245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16F937-A0C2-4D5C-9DD9-C02465AC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F1107A-B7E4-4574-9926-58657B58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446AC4-B330-489F-9FF8-3DBDE355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AE132D-4404-4207-9EDE-978B6FD3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D21387-63F9-4646-9E0A-6B7252D9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17769E-C0A5-4892-AAF4-AA90D1F5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DDD288-1E5A-4425-8692-C220F67C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2542F8-604F-4DC7-927E-79EDD981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A97AF1-E83C-4160-B183-02A8B0CF9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BA7B-0DBD-4DFA-AAA4-95209D287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A4BCCB-35E0-414F-A1EE-BE44DA5D5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8D2D6C-DBDB-4A50-AF96-32DF66BF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3DB726-AF2C-45CB-9C74-05693C1A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7E0286-CF46-4849-8852-157769D7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4A3A1E-B1FD-44AB-B8EE-320CA75F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C0F395-7C3D-4B75-93D7-4CA9C4F6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150D81-A0E6-47A6-82BD-89B3BA11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D8EA84-D1D7-47A9-B712-653BB93B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A66EBB4-B7A0-4349-8578-8DF59A04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BEF9AB-CD5E-4824-B5F6-89D21C46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9B879-EB3F-41CF-8074-ABD6F11539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DB55F4-855A-4BCD-BAD2-923671BE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5B7E61-65A5-4455-B3D0-617090BC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5BB6D8-2B1F-4E8F-9D38-9D4AF382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11C8FB5-1C5C-481B-9F47-CFF0F94F3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38498B6-70F9-4590-96A7-ECAB13C4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F43F0F-DFD3-48EE-BD38-C5EAA1C9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35DA2B-F625-4561-8F60-C640F6F3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1807E5-0BF2-4659-AD94-BA5502C0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41C443-6C83-4FE1-B514-0471EAC7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56C8C0-C493-4EA7-A16E-19B80D3D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41C86-4BBC-48F1-B925-ACADA81E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5B66559-0E21-45B5-B8D8-0399D809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2342E5-73A4-47DA-8645-040808BE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57D9CE4-3842-45A2-ABA2-75DEF606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4B154D-FF73-415E-B1A9-189217794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43EFC16-2243-4B8E-B038-AC0116CFA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8ABDC-F044-4751-993A-1F4E9015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E8CA9-2A8F-4299-8B3F-9B639442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0B781-11D2-4802-9ED7-974E5935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2CB04-0799-448A-8D21-AADF2597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85862-3863-4F31-80BB-13089834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8160-DDCC-4965-BFFE-505B5C4B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F8834-2F71-4723-8621-367B5FA4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14DC4-D586-4237-9A01-63E8CD34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1EAD5-2618-4F73-9478-C261EDCA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345EA-D176-43E1-B638-79422FF2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D7502-C405-4180-B787-7B5B4DDA60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A3EBB5-AD34-4347-95C3-AE1BDB36B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BC0440-D111-423B-9162-93C359CF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01A008-7609-4D6D-BBEA-315ECB45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C325A7-1F14-4409-B5F5-75D059C3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F50E74-BB23-4AFD-AFBD-91A8E710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29D4-D3CA-4437-AC8E-3C610FE7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D7ADAB-A2F9-459D-A4B5-6DF7630C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B0E5E1-D526-4CB9-A208-797166F6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903A19-599C-451D-8A71-A748C131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C84C30-F9C1-4CD6-B228-49371958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9FF975-48C9-4CB6-A5CB-1C3B1E15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28990A-EAC6-4BB4-AB4D-11809621B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E6E6F7-8D2B-4B0A-B788-4D570C7D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8C343E-F7AB-43BF-8B66-5EBFD84A0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E6FFEE-7D6A-4E72-BEBC-A688F7D4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17CE79-F23B-4E02-94EB-20EE84D9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F6A0-6AE9-490E-93AD-AFD4C4A7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6AFE87-2AA1-4064-8604-8AB9B3B0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913F75-616F-4D81-8F6A-E1FB1972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3D5D41-D328-4426-B514-44DB5453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7BE4B0-64EF-4EE9-97F9-620F5E7C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10EB86-338F-4574-ADA5-31BD94EE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A045CC-603F-4DD3-B891-8F7E9D00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0B602A-7C2F-4D47-A19F-B5659A47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5F8E79-CB1A-4029-8017-82B583A85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050A20-E03F-4C73-BC0B-47578B384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BBF244-E32A-49CE-A7D7-36205B0A2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1277-E089-4DDC-BFFC-61D49D45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99454E-9D59-44B7-A558-A3A8A4A3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490575-BB33-4BF2-9C02-4CCB1066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A78ABB-3920-456C-AAE1-CEF67D76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EEA855-B43D-4F66-9657-534A4444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667F4E-181A-47B7-8B35-83B59319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39D9C3-876F-4A06-8431-2C402C1E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3C1BEA-773B-41D1-9532-38A315CF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C76A17-31A6-4FF8-9A65-58866108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15A241-E719-4DCF-8130-C439F871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5A73CA-A345-4F69-A6B2-D23A6AAC9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98F8-4E86-44C0-908C-A96D0C9C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B4BD10-57E5-4FF6-A65A-6C049A400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06D689-9647-4650-B26B-8A9BA6540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06CEB7-0B9D-40E6-A3B5-68B50017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21D76E-A988-47D9-AA39-D2E2A38C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239D14-4C27-4ED0-9AC8-35DCB7B0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D20669-898D-4FA4-9B7B-5FDFEFBB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1EC5AC-5CC1-44B5-8954-63D2ADB9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99F8A6-C138-48B4-A089-4F4505AA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BEB090-2E17-491D-BF8B-04ABD561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4FF2E0-CB53-46FC-869D-11808105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F2C9-AB2A-4609-A0D8-173C9120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586BD4-EB60-4F6E-AAB3-E08143D2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FCBDF4-7A70-49A4-8C66-4240BE80C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AB70A4-837B-42E0-8525-E1DE3526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E1BAE1-51A8-469B-A36D-654B3A6B8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90485A-883E-4558-A21A-C6ED39A6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D2A66D-03FD-4A27-9EEF-517D1693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DF91AC-9625-4C2D-B926-FDA6D40F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2589A5-A1E7-4F26-BC8E-DFFECF2A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2232FE-9E60-40C8-A77F-33A2C83C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056272-0334-4047-B790-27D1651A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370F-9B07-4F42-89B8-724444FC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9CE073-10DE-4FAE-ACFD-F2CD1CD5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EA1640-D7A0-4391-AF5F-451BA931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81321A-943C-4C6F-A159-8302AD3B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DDDCAF-C7A4-449A-B62B-A7208E36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59C15A-14CB-473A-AF72-D01BFF3D2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3B33F3-D5A5-417C-8FA7-E2D2AB39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4AA16E-5272-42FB-B3E1-28677700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C582E2-9A75-46A3-B186-07EB69C2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BA399F-E236-499E-897D-9ADBC5E8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471A25-7A9E-42F9-BDAB-51D624ED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A932-E378-4E08-81C0-4B4DCC2F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F342E8-BC7C-4778-8782-217A36CA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C20D02-4EA9-4BA7-A56A-C6B9E0F6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6F44D2-80BC-4539-82F8-BA4DBC76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11077D-DA95-4801-8A72-6782518B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D256AB-9FC1-439A-BB56-DBB58C88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785C1C-E1A4-4CDE-8FCB-494247F6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AEAF11-5F6C-4DF5-89C4-B9CCBA09F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6C342C-B881-4B39-86B8-00851D8DF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FEB831-8ACB-4122-A67F-80126ACD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54C906-0C8A-4085-8BA9-A552A926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9700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98989"/>
                </a:solidFill>
                <a:latin typeface="Times New Roman"/>
              </a:rPr>
              <a:t>TÁMOP-4.2.2/B-10/1-2010-0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B76B-F052-4C8C-8C8F-46C3B40796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1592280"/>
            <a:ext cx="9144000" cy="4595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USZT_logo_cmyk.eps"/>
          <p:cNvPicPr/>
          <p:nvPr/>
        </p:nvPicPr>
        <p:blipFill>
          <a:blip r:embed="rId2"/>
          <a:stretch/>
        </p:blipFill>
        <p:spPr>
          <a:xfrm>
            <a:off x="6037200" y="163440"/>
            <a:ext cx="3046320" cy="12700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BME1782nagyQbordo.jpg"/>
          <p:cNvPicPr/>
          <p:nvPr/>
        </p:nvPicPr>
        <p:blipFill>
          <a:blip r:embed="rId3"/>
          <a:stretch/>
        </p:blipFill>
        <p:spPr>
          <a:xfrm>
            <a:off x="351000" y="6229440"/>
            <a:ext cx="1981080" cy="56016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11"/>
          <p:cNvSpPr/>
          <p:nvPr/>
        </p:nvSpPr>
        <p:spPr>
          <a:xfrm>
            <a:off x="0" y="1584360"/>
            <a:ext cx="914400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Kép 12" descr="NFU_levelpapir_lablec_CMYK"/>
          <p:cNvPicPr/>
          <p:nvPr/>
        </p:nvPicPr>
        <p:blipFill>
          <a:blip r:embed="rId4"/>
          <a:srcRect l="62180" t="6924" r="5920" b="25387"/>
          <a:stretch/>
        </p:blipFill>
        <p:spPr>
          <a:xfrm>
            <a:off x="7024680" y="6229440"/>
            <a:ext cx="177660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6"/>
          <p:cNvSpPr/>
          <p:nvPr/>
        </p:nvSpPr>
        <p:spPr>
          <a:xfrm>
            <a:off x="0" y="1592280"/>
            <a:ext cx="9144000" cy="4595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7" descr="USZT_logo_cmyk.eps"/>
          <p:cNvPicPr/>
          <p:nvPr/>
        </p:nvPicPr>
        <p:blipFill>
          <a:blip r:embed="rId2"/>
          <a:stretch/>
        </p:blipFill>
        <p:spPr>
          <a:xfrm>
            <a:off x="6037200" y="163440"/>
            <a:ext cx="3046320" cy="12700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0" descr="BME1782nagyQbordo.jpg"/>
          <p:cNvPicPr/>
          <p:nvPr/>
        </p:nvPicPr>
        <p:blipFill>
          <a:blip r:embed="rId3"/>
          <a:stretch/>
        </p:blipFill>
        <p:spPr>
          <a:xfrm>
            <a:off x="351000" y="6229440"/>
            <a:ext cx="1981080" cy="560160"/>
          </a:xfrm>
          <a:prstGeom prst="rect">
            <a:avLst/>
          </a:prstGeom>
          <a:ln w="0">
            <a:noFill/>
          </a:ln>
        </p:spPr>
      </p:pic>
      <p:sp>
        <p:nvSpPr>
          <p:cNvPr id="418" name="Straight Connector 11"/>
          <p:cNvSpPr/>
          <p:nvPr/>
        </p:nvSpPr>
        <p:spPr>
          <a:xfrm>
            <a:off x="0" y="1584360"/>
            <a:ext cx="914400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Kép 12" descr="NFU_levelpapir_lablec_CMYK"/>
          <p:cNvPicPr/>
          <p:nvPr/>
        </p:nvPicPr>
        <p:blipFill>
          <a:blip r:embed="rId4"/>
          <a:srcRect l="62180" t="6924" r="5920" b="25387"/>
          <a:stretch/>
        </p:blipFill>
        <p:spPr>
          <a:xfrm>
            <a:off x="7024680" y="6229440"/>
            <a:ext cx="1776600" cy="5713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8"/>
          </p:nvPr>
        </p:nvSpPr>
        <p:spPr>
          <a:xfrm>
            <a:off x="299700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98989"/>
                </a:solidFill>
                <a:latin typeface="Times New Roman"/>
              </a:rPr>
              <a:t>TÁMOP-4.1.2-08/2/A/KMR-2009-00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701B-B0C8-444C-8E46-AA6A4413E3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6"/>
          <p:cNvSpPr/>
          <p:nvPr/>
        </p:nvSpPr>
        <p:spPr>
          <a:xfrm>
            <a:off x="0" y="1592280"/>
            <a:ext cx="9144000" cy="4595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7" descr="USZT_logo_cmyk.eps"/>
          <p:cNvPicPr/>
          <p:nvPr/>
        </p:nvPicPr>
        <p:blipFill>
          <a:blip r:embed="rId2"/>
          <a:stretch/>
        </p:blipFill>
        <p:spPr>
          <a:xfrm>
            <a:off x="6037200" y="163440"/>
            <a:ext cx="3046320" cy="12700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0" descr="BME1782nagyQbordo.jpg"/>
          <p:cNvPicPr/>
          <p:nvPr/>
        </p:nvPicPr>
        <p:blipFill>
          <a:blip r:embed="rId3"/>
          <a:stretch/>
        </p:blipFill>
        <p:spPr>
          <a:xfrm>
            <a:off x="351000" y="6229440"/>
            <a:ext cx="1981080" cy="560160"/>
          </a:xfrm>
          <a:prstGeom prst="rect">
            <a:avLst/>
          </a:prstGeom>
          <a:ln w="0">
            <a:noFill/>
          </a:ln>
        </p:spPr>
      </p:pic>
      <p:sp>
        <p:nvSpPr>
          <p:cNvPr id="464" name="Straight Connector 11"/>
          <p:cNvSpPr/>
          <p:nvPr/>
        </p:nvSpPr>
        <p:spPr>
          <a:xfrm>
            <a:off x="0" y="1584360"/>
            <a:ext cx="914400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Kép 12" descr="NFU_levelpapir_lablec_CMYK"/>
          <p:cNvPicPr/>
          <p:nvPr/>
        </p:nvPicPr>
        <p:blipFill>
          <a:blip r:embed="rId4"/>
          <a:srcRect l="62180" t="6924" r="5920" b="25387"/>
          <a:stretch/>
        </p:blipFill>
        <p:spPr>
          <a:xfrm>
            <a:off x="7024680" y="6229440"/>
            <a:ext cx="1776600" cy="57132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1"/>
          </p:nvPr>
        </p:nvSpPr>
        <p:spPr>
          <a:xfrm>
            <a:off x="299700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98989"/>
                </a:solidFill>
                <a:latin typeface="Times New Roman"/>
              </a:rPr>
              <a:t>TÁMOP-4.1.2-08/2/A/KMR-2009-00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76FD-07CC-4E0E-ADE2-95B4666C1C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6"/>
          <p:cNvSpPr/>
          <p:nvPr/>
        </p:nvSpPr>
        <p:spPr>
          <a:xfrm>
            <a:off x="0" y="1592280"/>
            <a:ext cx="9144000" cy="4595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7" descr="USZT_logo_cmyk.eps"/>
          <p:cNvPicPr/>
          <p:nvPr/>
        </p:nvPicPr>
        <p:blipFill>
          <a:blip r:embed="rId2"/>
          <a:stretch/>
        </p:blipFill>
        <p:spPr>
          <a:xfrm>
            <a:off x="6037200" y="163440"/>
            <a:ext cx="3046320" cy="12700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0" descr="BME1782nagyQbordo.jpg"/>
          <p:cNvPicPr/>
          <p:nvPr/>
        </p:nvPicPr>
        <p:blipFill>
          <a:blip r:embed="rId3"/>
          <a:stretch/>
        </p:blipFill>
        <p:spPr>
          <a:xfrm>
            <a:off x="351000" y="6229440"/>
            <a:ext cx="1981080" cy="560160"/>
          </a:xfrm>
          <a:prstGeom prst="rect">
            <a:avLst/>
          </a:prstGeom>
          <a:ln w="0">
            <a:noFill/>
          </a:ln>
        </p:spPr>
      </p:pic>
      <p:sp>
        <p:nvSpPr>
          <p:cNvPr id="510" name="Straight Connector 11"/>
          <p:cNvSpPr/>
          <p:nvPr/>
        </p:nvSpPr>
        <p:spPr>
          <a:xfrm>
            <a:off x="0" y="1584360"/>
            <a:ext cx="914400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Kép 12" descr="NFU_levelpapir_lablec_CMYK"/>
          <p:cNvPicPr/>
          <p:nvPr/>
        </p:nvPicPr>
        <p:blipFill>
          <a:blip r:embed="rId4"/>
          <a:srcRect l="62180" t="6924" r="5920" b="25387"/>
          <a:stretch/>
        </p:blipFill>
        <p:spPr>
          <a:xfrm>
            <a:off x="7024680" y="6229440"/>
            <a:ext cx="1776600" cy="57132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4"/>
          </p:nvPr>
        </p:nvSpPr>
        <p:spPr>
          <a:xfrm>
            <a:off x="299700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98989"/>
                </a:solidFill>
                <a:latin typeface="Times New Roman"/>
              </a:rPr>
              <a:t>TÁMOP-4.1.2-08/2/A/KMR-2009-00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BE18-9729-45E8-955F-D2EAECFAB5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6"/>
          <p:cNvSpPr/>
          <p:nvPr/>
        </p:nvSpPr>
        <p:spPr>
          <a:xfrm>
            <a:off x="0" y="1592280"/>
            <a:ext cx="9144000" cy="4595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USZT_logo_cmyk.eps"/>
          <p:cNvPicPr/>
          <p:nvPr/>
        </p:nvPicPr>
        <p:blipFill>
          <a:blip r:embed="rId2"/>
          <a:stretch/>
        </p:blipFill>
        <p:spPr>
          <a:xfrm>
            <a:off x="6037200" y="163440"/>
            <a:ext cx="3046320" cy="1270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BME1782nagyQbordo.jpg"/>
          <p:cNvPicPr/>
          <p:nvPr/>
        </p:nvPicPr>
        <p:blipFill>
          <a:blip r:embed="rId3"/>
          <a:stretch/>
        </p:blipFill>
        <p:spPr>
          <a:xfrm>
            <a:off x="351000" y="6229440"/>
            <a:ext cx="1981080" cy="560160"/>
          </a:xfrm>
          <a:prstGeom prst="rect">
            <a:avLst/>
          </a:prstGeom>
          <a:ln w="0">
            <a:noFill/>
          </a:ln>
        </p:spPr>
      </p:pic>
      <p:sp>
        <p:nvSpPr>
          <p:cNvPr id="49" name="Straight Connector 11"/>
          <p:cNvSpPr/>
          <p:nvPr/>
        </p:nvSpPr>
        <p:spPr>
          <a:xfrm>
            <a:off x="0" y="1584360"/>
            <a:ext cx="914400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Kép 12" descr="NFU_levelpapir_lablec_CMYK"/>
          <p:cNvPicPr/>
          <p:nvPr/>
        </p:nvPicPr>
        <p:blipFill>
          <a:blip r:embed="rId4"/>
          <a:srcRect l="62180" t="6924" r="5920" b="25387"/>
          <a:stretch/>
        </p:blipFill>
        <p:spPr>
          <a:xfrm>
            <a:off x="7024680" y="6229440"/>
            <a:ext cx="1776600" cy="571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B4B5-689B-4F8D-8D1C-EC4E12D4CA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592280"/>
            <a:ext cx="9144000" cy="4595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USZT_logo_cmyk.eps"/>
          <p:cNvPicPr/>
          <p:nvPr/>
        </p:nvPicPr>
        <p:blipFill>
          <a:blip r:embed="rId2"/>
          <a:stretch/>
        </p:blipFill>
        <p:spPr>
          <a:xfrm>
            <a:off x="6037200" y="163440"/>
            <a:ext cx="3046320" cy="1270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BME1782nagyQbordo.jpg"/>
          <p:cNvPicPr/>
          <p:nvPr/>
        </p:nvPicPr>
        <p:blipFill>
          <a:blip r:embed="rId3"/>
          <a:stretch/>
        </p:blipFill>
        <p:spPr>
          <a:xfrm>
            <a:off x="351000" y="6229440"/>
            <a:ext cx="1981080" cy="560160"/>
          </a:xfrm>
          <a:prstGeom prst="rect">
            <a:avLst/>
          </a:prstGeom>
          <a:ln w="0">
            <a:noFill/>
          </a:ln>
        </p:spPr>
      </p:pic>
      <p:sp>
        <p:nvSpPr>
          <p:cNvPr id="94" name="Straight Connector 11"/>
          <p:cNvSpPr/>
          <p:nvPr/>
        </p:nvSpPr>
        <p:spPr>
          <a:xfrm>
            <a:off x="0" y="1584360"/>
            <a:ext cx="914400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Kép 12" descr="NFU_levelpapir_lablec_CMYK"/>
          <p:cNvPicPr/>
          <p:nvPr/>
        </p:nvPicPr>
        <p:blipFill>
          <a:blip r:embed="rId4"/>
          <a:srcRect l="62180" t="6924" r="5920" b="25387"/>
          <a:stretch/>
        </p:blipFill>
        <p:spPr>
          <a:xfrm>
            <a:off x="7024680" y="6229440"/>
            <a:ext cx="1776600" cy="5713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9"/>
          <p:cNvSpPr/>
          <p:nvPr/>
        </p:nvSpPr>
        <p:spPr>
          <a:xfrm>
            <a:off x="0" y="1566720"/>
            <a:ext cx="9144000" cy="4597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10"/>
          <p:cNvSpPr/>
          <p:nvPr/>
        </p:nvSpPr>
        <p:spPr>
          <a:xfrm>
            <a:off x="0" y="1566720"/>
            <a:ext cx="914400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7"/>
          </p:nvPr>
        </p:nvSpPr>
        <p:spPr>
          <a:xfrm>
            <a:off x="299700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98989"/>
                </a:solidFill>
                <a:latin typeface="Times New Roman"/>
              </a:rPr>
              <a:t>TÁMOP-4.2.2/B10-1/2010-0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8"/>
          </p:nvPr>
        </p:nvSpPr>
        <p:spPr>
          <a:xfrm>
            <a:off x="6527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9E0A-1270-4FF8-9AEE-86EBDD3A79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0" y="1592280"/>
            <a:ext cx="9144000" cy="4595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USZT_logo_cmyk.eps"/>
          <p:cNvPicPr/>
          <p:nvPr/>
        </p:nvPicPr>
        <p:blipFill>
          <a:blip r:embed="rId2"/>
          <a:stretch/>
        </p:blipFill>
        <p:spPr>
          <a:xfrm>
            <a:off x="6037200" y="163440"/>
            <a:ext cx="3046320" cy="1270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BME1782nagyQbordo.jpg"/>
          <p:cNvPicPr/>
          <p:nvPr/>
        </p:nvPicPr>
        <p:blipFill>
          <a:blip r:embed="rId3"/>
          <a:stretch/>
        </p:blipFill>
        <p:spPr>
          <a:xfrm>
            <a:off x="351000" y="6229440"/>
            <a:ext cx="1981080" cy="560160"/>
          </a:xfrm>
          <a:prstGeom prst="rect">
            <a:avLst/>
          </a:prstGeom>
          <a:ln w="0">
            <a:noFill/>
          </a:ln>
        </p:spPr>
      </p:pic>
      <p:sp>
        <p:nvSpPr>
          <p:cNvPr id="142" name="Straight Connector 11"/>
          <p:cNvSpPr/>
          <p:nvPr/>
        </p:nvSpPr>
        <p:spPr>
          <a:xfrm>
            <a:off x="0" y="1584360"/>
            <a:ext cx="914400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Kép 12" descr="NFU_levelpapir_lablec_CMYK"/>
          <p:cNvPicPr/>
          <p:nvPr/>
        </p:nvPicPr>
        <p:blipFill>
          <a:blip r:embed="rId4"/>
          <a:srcRect l="62180" t="6924" r="5920" b="25387"/>
          <a:stretch/>
        </p:blipFill>
        <p:spPr>
          <a:xfrm>
            <a:off x="7024680" y="6229440"/>
            <a:ext cx="1776600" cy="5713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0"/>
          </p:nvPr>
        </p:nvSpPr>
        <p:spPr>
          <a:xfrm>
            <a:off x="299700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98989"/>
                </a:solidFill>
                <a:latin typeface="Times New Roman"/>
              </a:rPr>
              <a:t>TÁMOP-4.1.2-08/2/A/KMR-2009-00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F61C-155B-434F-B43F-3C2346017C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0" y="1592280"/>
            <a:ext cx="9144000" cy="4595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USZT_logo_cmyk.eps"/>
          <p:cNvPicPr/>
          <p:nvPr/>
        </p:nvPicPr>
        <p:blipFill>
          <a:blip r:embed="rId2"/>
          <a:stretch/>
        </p:blipFill>
        <p:spPr>
          <a:xfrm>
            <a:off x="6037200" y="163440"/>
            <a:ext cx="3046320" cy="1270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BME1782nagyQbordo.jpg"/>
          <p:cNvPicPr/>
          <p:nvPr/>
        </p:nvPicPr>
        <p:blipFill>
          <a:blip r:embed="rId3"/>
          <a:stretch/>
        </p:blipFill>
        <p:spPr>
          <a:xfrm>
            <a:off x="351000" y="6229440"/>
            <a:ext cx="1981080" cy="560160"/>
          </a:xfrm>
          <a:prstGeom prst="rect">
            <a:avLst/>
          </a:prstGeom>
          <a:ln w="0">
            <a:noFill/>
          </a:ln>
        </p:spPr>
      </p:pic>
      <p:sp>
        <p:nvSpPr>
          <p:cNvPr id="188" name="Straight Connector 11"/>
          <p:cNvSpPr/>
          <p:nvPr/>
        </p:nvSpPr>
        <p:spPr>
          <a:xfrm>
            <a:off x="0" y="1584360"/>
            <a:ext cx="914400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Kép 12" descr="NFU_levelpapir_lablec_CMYK"/>
          <p:cNvPicPr/>
          <p:nvPr/>
        </p:nvPicPr>
        <p:blipFill>
          <a:blip r:embed="rId4"/>
          <a:srcRect l="62180" t="6924" r="5920" b="25387"/>
          <a:stretch/>
        </p:blipFill>
        <p:spPr>
          <a:xfrm>
            <a:off x="7024680" y="6229440"/>
            <a:ext cx="1776600" cy="5713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3CB7-3CE5-4F03-9891-F6BF8391D60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3"/>
          </p:nvPr>
        </p:nvSpPr>
        <p:spPr>
          <a:xfrm>
            <a:off x="299700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98989"/>
                </a:solidFill>
                <a:latin typeface="Times New Roman"/>
              </a:rPr>
              <a:t>TÁMOP-4.1.2-08/2/A/KMR-2009-00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19B6-753B-48DD-9B1C-00682FF549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0" y="1592280"/>
            <a:ext cx="9144000" cy="4595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USZT_logo_cmyk.eps"/>
          <p:cNvPicPr/>
          <p:nvPr/>
        </p:nvPicPr>
        <p:blipFill>
          <a:blip r:embed="rId2"/>
          <a:stretch/>
        </p:blipFill>
        <p:spPr>
          <a:xfrm>
            <a:off x="6037200" y="163440"/>
            <a:ext cx="3046320" cy="12700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BME1782nagyQbordo.jpg"/>
          <p:cNvPicPr/>
          <p:nvPr/>
        </p:nvPicPr>
        <p:blipFill>
          <a:blip r:embed="rId3"/>
          <a:stretch/>
        </p:blipFill>
        <p:spPr>
          <a:xfrm>
            <a:off x="351000" y="6229440"/>
            <a:ext cx="1981080" cy="560160"/>
          </a:xfrm>
          <a:prstGeom prst="rect">
            <a:avLst/>
          </a:prstGeom>
          <a:ln w="0">
            <a:noFill/>
          </a:ln>
        </p:spPr>
      </p:pic>
      <p:sp>
        <p:nvSpPr>
          <p:cNvPr id="234" name="Straight Connector 11"/>
          <p:cNvSpPr/>
          <p:nvPr/>
        </p:nvSpPr>
        <p:spPr>
          <a:xfrm>
            <a:off x="0" y="1584360"/>
            <a:ext cx="914400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Kép 12" descr="NFU_levelpapir_lablec_CMYK"/>
          <p:cNvPicPr/>
          <p:nvPr/>
        </p:nvPicPr>
        <p:blipFill>
          <a:blip r:embed="rId4"/>
          <a:srcRect l="62180" t="6924" r="5920" b="25387"/>
          <a:stretch/>
        </p:blipFill>
        <p:spPr>
          <a:xfrm>
            <a:off x="7024680" y="6229440"/>
            <a:ext cx="1776600" cy="5713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50D3-C71F-4683-A66B-18FB3181FB2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6"/>
          </p:nvPr>
        </p:nvSpPr>
        <p:spPr>
          <a:xfrm>
            <a:off x="299700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98989"/>
                </a:solidFill>
                <a:latin typeface="Times New Roman"/>
              </a:rPr>
              <a:t>TÁMOP-4.1.2-08/2/A/KMR-2009-00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54B1-A9E4-4BD6-A721-9AC580F1EF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0" y="1592280"/>
            <a:ext cx="9144000" cy="4595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7" descr="USZT_logo_cmyk.eps"/>
          <p:cNvPicPr/>
          <p:nvPr/>
        </p:nvPicPr>
        <p:blipFill>
          <a:blip r:embed="rId2"/>
          <a:stretch/>
        </p:blipFill>
        <p:spPr>
          <a:xfrm>
            <a:off x="6037200" y="163440"/>
            <a:ext cx="3046320" cy="1270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0" descr="BME1782nagyQbordo.jpg"/>
          <p:cNvPicPr/>
          <p:nvPr/>
        </p:nvPicPr>
        <p:blipFill>
          <a:blip r:embed="rId3"/>
          <a:stretch/>
        </p:blipFill>
        <p:spPr>
          <a:xfrm>
            <a:off x="351000" y="6229440"/>
            <a:ext cx="1981080" cy="560160"/>
          </a:xfrm>
          <a:prstGeom prst="rect">
            <a:avLst/>
          </a:prstGeom>
          <a:ln w="0">
            <a:noFill/>
          </a:ln>
        </p:spPr>
      </p:pic>
      <p:sp>
        <p:nvSpPr>
          <p:cNvPr id="280" name="Straight Connector 11"/>
          <p:cNvSpPr/>
          <p:nvPr/>
        </p:nvSpPr>
        <p:spPr>
          <a:xfrm>
            <a:off x="0" y="1584360"/>
            <a:ext cx="914400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Kép 12" descr="NFU_levelpapir_lablec_CMYK"/>
          <p:cNvPicPr/>
          <p:nvPr/>
        </p:nvPicPr>
        <p:blipFill>
          <a:blip r:embed="rId4"/>
          <a:srcRect l="62180" t="6924" r="5920" b="25387"/>
          <a:stretch/>
        </p:blipFill>
        <p:spPr>
          <a:xfrm>
            <a:off x="7024680" y="6229440"/>
            <a:ext cx="1776600" cy="5713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D46F-E544-4824-A274-D8FCD70A39C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9"/>
          </p:nvPr>
        </p:nvSpPr>
        <p:spPr>
          <a:xfrm>
            <a:off x="299700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98989"/>
                </a:solidFill>
                <a:latin typeface="Times New Roman"/>
              </a:rPr>
              <a:t>TÁMOP-4.1.2-08/2/A/KMR-2009-00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EFA7-4895-4188-B97B-81FD481658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0" y="1592280"/>
            <a:ext cx="9144000" cy="4595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7" descr="USZT_logo_cmyk.eps"/>
          <p:cNvPicPr/>
          <p:nvPr/>
        </p:nvPicPr>
        <p:blipFill>
          <a:blip r:embed="rId2"/>
          <a:stretch/>
        </p:blipFill>
        <p:spPr>
          <a:xfrm>
            <a:off x="6037200" y="163440"/>
            <a:ext cx="3046320" cy="12700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0" descr="BME1782nagyQbordo.jpg"/>
          <p:cNvPicPr/>
          <p:nvPr/>
        </p:nvPicPr>
        <p:blipFill>
          <a:blip r:embed="rId3"/>
          <a:stretch/>
        </p:blipFill>
        <p:spPr>
          <a:xfrm>
            <a:off x="351000" y="6229440"/>
            <a:ext cx="1981080" cy="560160"/>
          </a:xfrm>
          <a:prstGeom prst="rect">
            <a:avLst/>
          </a:prstGeom>
          <a:ln w="0">
            <a:noFill/>
          </a:ln>
        </p:spPr>
      </p:pic>
      <p:sp>
        <p:nvSpPr>
          <p:cNvPr id="326" name="Straight Connector 11"/>
          <p:cNvSpPr/>
          <p:nvPr/>
        </p:nvSpPr>
        <p:spPr>
          <a:xfrm>
            <a:off x="0" y="1584360"/>
            <a:ext cx="914400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Kép 12" descr="NFU_levelpapir_lablec_CMYK"/>
          <p:cNvPicPr/>
          <p:nvPr/>
        </p:nvPicPr>
        <p:blipFill>
          <a:blip r:embed="rId4"/>
          <a:srcRect l="62180" t="6924" r="5920" b="25387"/>
          <a:stretch/>
        </p:blipFill>
        <p:spPr>
          <a:xfrm>
            <a:off x="7024680" y="6229440"/>
            <a:ext cx="1776600" cy="57132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ECC5-6274-4B73-87C7-6218DBA8F7A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2"/>
          </p:nvPr>
        </p:nvSpPr>
        <p:spPr>
          <a:xfrm>
            <a:off x="299700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98989"/>
                </a:solidFill>
                <a:latin typeface="Times New Roman"/>
              </a:rPr>
              <a:t>TÁMOP-4.1.2-08/2/A/KMR-2009-00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29AE-8ECD-4B71-85E8-784FC9DB0F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0" y="1592280"/>
            <a:ext cx="9144000" cy="4595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7" descr="USZT_logo_cmyk.eps"/>
          <p:cNvPicPr/>
          <p:nvPr/>
        </p:nvPicPr>
        <p:blipFill>
          <a:blip r:embed="rId2"/>
          <a:stretch/>
        </p:blipFill>
        <p:spPr>
          <a:xfrm>
            <a:off x="6037200" y="163440"/>
            <a:ext cx="3046320" cy="12700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" descr="BME1782nagyQbordo.jpg"/>
          <p:cNvPicPr/>
          <p:nvPr/>
        </p:nvPicPr>
        <p:blipFill>
          <a:blip r:embed="rId3"/>
          <a:stretch/>
        </p:blipFill>
        <p:spPr>
          <a:xfrm>
            <a:off x="351000" y="6229440"/>
            <a:ext cx="1981080" cy="560160"/>
          </a:xfrm>
          <a:prstGeom prst="rect">
            <a:avLst/>
          </a:prstGeom>
          <a:ln w="0">
            <a:noFill/>
          </a:ln>
        </p:spPr>
      </p:pic>
      <p:sp>
        <p:nvSpPr>
          <p:cNvPr id="372" name="Straight Connector 11"/>
          <p:cNvSpPr/>
          <p:nvPr/>
        </p:nvSpPr>
        <p:spPr>
          <a:xfrm>
            <a:off x="0" y="1584360"/>
            <a:ext cx="914400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Kép 12" descr="NFU_levelpapir_lablec_CMYK"/>
          <p:cNvPicPr/>
          <p:nvPr/>
        </p:nvPicPr>
        <p:blipFill>
          <a:blip r:embed="rId4"/>
          <a:srcRect l="62180" t="6924" r="5920" b="25387"/>
          <a:stretch/>
        </p:blipFill>
        <p:spPr>
          <a:xfrm>
            <a:off x="7024680" y="6229440"/>
            <a:ext cx="1776600" cy="5713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5"/>
          </p:nvPr>
        </p:nvSpPr>
        <p:spPr>
          <a:xfrm>
            <a:off x="299700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98989"/>
                </a:solidFill>
                <a:latin typeface="Times New Roman"/>
              </a:rPr>
              <a:t>TÁMOP-4.1.2-08/2/A/KMR-2009-00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B66C-D1E5-486F-AAD8-D2D357F172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0" y="1558800"/>
            <a:ext cx="9144000" cy="14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Új tehetséggondozó programok és kutatások a Műegyetem tudományos műhelyeibe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zövegdoboz 5"/>
          <p:cNvSpPr/>
          <p:nvPr/>
        </p:nvSpPr>
        <p:spPr>
          <a:xfrm>
            <a:off x="2010960" y="2882880"/>
            <a:ext cx="438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ÁMOP-4.2.2/B-10/1-2010-0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zövegdoboz 1"/>
          <p:cNvSpPr/>
          <p:nvPr/>
        </p:nvSpPr>
        <p:spPr>
          <a:xfrm>
            <a:off x="122400" y="326880"/>
            <a:ext cx="6414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BUDAPESTI MŰSZAKI ÉS GAZDASÁGTUDOMÁNYI EGYE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GYESÜLT INNOVÁCIÓS ÉS TUDÁSKÖZPO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űegyetemi Tudományos Műhelyek és Tehetséggondozás Projektir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zövegdoboz 1"/>
          <p:cNvSpPr/>
          <p:nvPr/>
        </p:nvSpPr>
        <p:spPr>
          <a:xfrm>
            <a:off x="3191040" y="342108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ndovszky J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6" descr=""/>
          <p:cNvPicPr/>
          <p:nvPr/>
        </p:nvPicPr>
        <p:blipFill>
          <a:blip r:embed="rId1"/>
          <a:stretch/>
        </p:blipFill>
        <p:spPr>
          <a:xfrm>
            <a:off x="2851200" y="3867120"/>
            <a:ext cx="301320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91880" y="196560"/>
            <a:ext cx="5784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ntegrált egyetemi folyamat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0" descr="kfi kep"/>
          <p:cNvPicPr/>
          <p:nvPr/>
        </p:nvPicPr>
        <p:blipFill>
          <a:blip r:embed="rId1"/>
          <a:stretch/>
        </p:blipFill>
        <p:spPr>
          <a:xfrm>
            <a:off x="0" y="1698480"/>
            <a:ext cx="4081320" cy="40006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7" descr=""/>
          <p:cNvPicPr/>
          <p:nvPr/>
        </p:nvPicPr>
        <p:blipFill>
          <a:blip r:embed="rId2"/>
          <a:stretch/>
        </p:blipFill>
        <p:spPr>
          <a:xfrm>
            <a:off x="4338720" y="3697200"/>
            <a:ext cx="1917720" cy="180504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0" descr=""/>
          <p:cNvPicPr/>
          <p:nvPr/>
        </p:nvPicPr>
        <p:blipFill>
          <a:blip r:embed="rId3"/>
          <a:stretch/>
        </p:blipFill>
        <p:spPr>
          <a:xfrm>
            <a:off x="4187880" y="1832040"/>
            <a:ext cx="2162160" cy="16779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6" descr=""/>
          <p:cNvPicPr/>
          <p:nvPr/>
        </p:nvPicPr>
        <p:blipFill>
          <a:blip r:embed="rId4"/>
          <a:stretch/>
        </p:blipFill>
        <p:spPr>
          <a:xfrm>
            <a:off x="6649920" y="270360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7"/>
          <p:cNvSpPr/>
          <p:nvPr/>
        </p:nvSpPr>
        <p:spPr>
          <a:xfrm>
            <a:off x="617400" y="574056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utatás               +                          Innováció       +             Tehetséggondo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587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Integrált egyetemi projekt menedzsment- </a:t>
            </a:r>
            <a:r>
              <a:rPr b="0" i="1" lang="hu-HU" sz="3200" spc="-1" strike="noStrike">
                <a:solidFill>
                  <a:srgbClr val="000000"/>
                </a:solidFill>
                <a:latin typeface="Calibri"/>
              </a:rPr>
              <a:t>BME Egyesült Innovációs és Tudásközpo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1" name="Object 7"/>
          <p:cNvGraphicFramePr/>
          <p:nvPr/>
        </p:nvGraphicFramePr>
        <p:xfrm>
          <a:off x="1847880" y="1655640"/>
          <a:ext cx="5251320" cy="452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1655640"/>
                    <a:ext cx="52513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Csoportba foglalás 10"/>
          <p:cNvGrpSpPr/>
          <p:nvPr/>
        </p:nvGrpSpPr>
        <p:grpSpPr>
          <a:xfrm>
            <a:off x="328680" y="1895400"/>
            <a:ext cx="8523360" cy="3606840"/>
            <a:chOff x="328680" y="1895400"/>
            <a:chExt cx="8523360" cy="3606840"/>
          </a:xfrm>
        </p:grpSpPr>
        <p:sp>
          <p:nvSpPr>
            <p:cNvPr id="674" name="AutoShape 2"/>
            <p:cNvSpPr/>
            <p:nvPr/>
          </p:nvSpPr>
          <p:spPr>
            <a:xfrm>
              <a:off x="328680" y="1895400"/>
              <a:ext cx="8523360" cy="3606840"/>
            </a:xfrm>
            <a:prstGeom prst="roundRect">
              <a:avLst>
                <a:gd name="adj" fmla="val 6231"/>
              </a:avLst>
            </a:prstGeom>
            <a:solidFill>
              <a:srgbClr val="e6e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55080" bIns="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627280"/>
                  <a:tab algn="l" pos="3282840"/>
                  <a:tab algn="l" pos="3940200"/>
                  <a:tab algn="l" pos="4595760"/>
                  <a:tab algn="l" pos="5253120"/>
                  <a:tab algn="l" pos="5910120"/>
                  <a:tab algn="l" pos="6566040"/>
                  <a:tab algn="l" pos="7223040"/>
                  <a:tab algn="l" pos="78804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TM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627280"/>
                  <a:tab algn="l" pos="3282840"/>
                  <a:tab algn="l" pos="3940200"/>
                  <a:tab algn="l" pos="4595760"/>
                  <a:tab algn="l" pos="5253120"/>
                  <a:tab algn="l" pos="5910120"/>
                  <a:tab algn="l" pos="6566040"/>
                  <a:tab algn="l" pos="7223040"/>
                  <a:tab algn="l" pos="78804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jek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627280"/>
                  <a:tab algn="l" pos="3282840"/>
                  <a:tab algn="l" pos="3940200"/>
                  <a:tab algn="l" pos="4595760"/>
                  <a:tab algn="l" pos="5253120"/>
                  <a:tab algn="l" pos="5910120"/>
                  <a:tab algn="l" pos="6566040"/>
                  <a:tab algn="l" pos="7223040"/>
                  <a:tab algn="l" pos="788040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ro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AutoShape 3"/>
            <p:cNvSpPr/>
            <p:nvPr/>
          </p:nvSpPr>
          <p:spPr>
            <a:xfrm>
              <a:off x="3506760" y="4441680"/>
              <a:ext cx="2211480" cy="947520"/>
            </a:xfrm>
            <a:prstGeom prst="roundRect">
              <a:avLst>
                <a:gd name="adj" fmla="val 16667"/>
              </a:avLst>
            </a:prstGeom>
            <a:solidFill>
              <a:srgbClr val="00d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53640" bIns="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AutoShape 4"/>
            <p:cNvSpPr/>
            <p:nvPr/>
          </p:nvSpPr>
          <p:spPr>
            <a:xfrm>
              <a:off x="3665520" y="4759560"/>
              <a:ext cx="1893960" cy="4730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53640" bIns="406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smeretterjesztési</a:t>
              </a:r>
              <a:br>
                <a:rPr sz="1500"/>
              </a:b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elelő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7" name="Group 11"/>
            <p:cNvGrpSpPr/>
            <p:nvPr/>
          </p:nvGrpSpPr>
          <p:grpSpPr>
            <a:xfrm>
              <a:off x="3348000" y="2074680"/>
              <a:ext cx="2525760" cy="946080"/>
              <a:chOff x="3348000" y="2074680"/>
              <a:chExt cx="2525760" cy="946080"/>
            </a:xfrm>
          </p:grpSpPr>
          <p:sp>
            <p:nvSpPr>
              <p:cNvPr id="678" name="AutoShape 12"/>
              <p:cNvSpPr/>
              <p:nvPr/>
            </p:nvSpPr>
            <p:spPr>
              <a:xfrm>
                <a:off x="3348000" y="2074680"/>
                <a:ext cx="2525760" cy="946080"/>
              </a:xfrm>
              <a:prstGeom prst="roundRect">
                <a:avLst>
                  <a:gd name="adj" fmla="val 16667"/>
                </a:avLst>
              </a:prstGeom>
              <a:solidFill>
                <a:srgbClr val="00d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720" rIns="81720" tIns="53640" bIns="406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657360"/>
                    <a:tab algn="l" pos="1312920"/>
                    <a:tab algn="l" pos="1969920"/>
                    <a:tab algn="l" pos="2039760"/>
                    <a:tab algn="l" pos="2448000"/>
                    <a:tab algn="l" pos="2855880"/>
                    <a:tab algn="l" pos="3263760"/>
                    <a:tab algn="l" pos="3672000"/>
                    <a:tab algn="l" pos="4079880"/>
                    <a:tab algn="l" pos="4487760"/>
                    <a:tab algn="l" pos="4896000"/>
                    <a:tab algn="l" pos="5303880"/>
                    <a:tab algn="l" pos="5711760"/>
                    <a:tab algn="l" pos="6119640"/>
                    <a:tab algn="l" pos="6527880"/>
                    <a:tab algn="l" pos="6935760"/>
                    <a:tab algn="l" pos="7343640"/>
                    <a:tab algn="l" pos="7751880"/>
                    <a:tab algn="l" pos="8159760"/>
                    <a:tab algn="l" pos="8567640"/>
                    <a:tab algn="l" pos="8975880"/>
                    <a:tab algn="l" pos="9383760"/>
                    <a:tab algn="l" pos="979164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udományos menedzsment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AutoShape 13"/>
              <p:cNvSpPr/>
              <p:nvPr/>
            </p:nvSpPr>
            <p:spPr>
              <a:xfrm>
                <a:off x="3495960" y="2390760"/>
                <a:ext cx="2227320" cy="47304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720" rIns="81720" tIns="53640" bIns="4068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657360"/>
                    <a:tab algn="l" pos="1312920"/>
                    <a:tab algn="l" pos="1969920"/>
                    <a:tab algn="l" pos="2039760"/>
                    <a:tab algn="l" pos="2448000"/>
                    <a:tab algn="l" pos="2855880"/>
                    <a:tab algn="l" pos="3263760"/>
                    <a:tab algn="l" pos="3672000"/>
                    <a:tab algn="l" pos="4079880"/>
                    <a:tab algn="l" pos="4487760"/>
                    <a:tab algn="l" pos="4896000"/>
                    <a:tab algn="l" pos="5303880"/>
                    <a:tab algn="l" pos="5711760"/>
                    <a:tab algn="l" pos="6119640"/>
                    <a:tab algn="l" pos="6527880"/>
                    <a:tab algn="l" pos="6935760"/>
                    <a:tab algn="l" pos="7343640"/>
                    <a:tab algn="l" pos="7751880"/>
                    <a:tab algn="l" pos="8159760"/>
                    <a:tab algn="l" pos="8567640"/>
                    <a:tab algn="l" pos="8975880"/>
                    <a:tab algn="l" pos="9383760"/>
                    <a:tab algn="l" pos="979164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udományos Igazgató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3000"/>
                  </a:lnSpc>
                  <a:tabLst>
                    <a:tab algn="l" pos="0"/>
                    <a:tab algn="l" pos="657360"/>
                    <a:tab algn="l" pos="1312920"/>
                    <a:tab algn="l" pos="1969920"/>
                    <a:tab algn="l" pos="2039760"/>
                    <a:tab algn="l" pos="2448000"/>
                    <a:tab algn="l" pos="2855880"/>
                    <a:tab algn="l" pos="3263760"/>
                    <a:tab algn="l" pos="3672000"/>
                    <a:tab algn="l" pos="4079880"/>
                    <a:tab algn="l" pos="4487760"/>
                    <a:tab algn="l" pos="4896000"/>
                    <a:tab algn="l" pos="5303880"/>
                    <a:tab algn="l" pos="5711760"/>
                    <a:tab algn="l" pos="6119640"/>
                    <a:tab algn="l" pos="6527880"/>
                    <a:tab algn="l" pos="6935760"/>
                    <a:tab algn="l" pos="7343640"/>
                    <a:tab algn="l" pos="7751880"/>
                    <a:tab algn="l" pos="8159760"/>
                    <a:tab algn="l" pos="8567640"/>
                    <a:tab algn="l" pos="8975880"/>
                    <a:tab algn="l" pos="9383760"/>
                    <a:tab algn="l" pos="979164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0" name="AutoShape 14"/>
            <p:cNvSpPr/>
            <p:nvPr/>
          </p:nvSpPr>
          <p:spPr>
            <a:xfrm>
              <a:off x="3299040" y="3179520"/>
              <a:ext cx="2574720" cy="947520"/>
            </a:xfrm>
            <a:prstGeom prst="roundRect">
              <a:avLst>
                <a:gd name="adj" fmla="val 16667"/>
              </a:avLst>
            </a:prstGeom>
            <a:solidFill>
              <a:srgbClr val="00d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53640" bIns="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ontrolli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AutoShape 15"/>
            <p:cNvSpPr/>
            <p:nvPr/>
          </p:nvSpPr>
          <p:spPr>
            <a:xfrm>
              <a:off x="3414600" y="3495600"/>
              <a:ext cx="2301840" cy="474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53640" bIns="406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jektiroda vezető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2" name="Group 16"/>
            <p:cNvGrpSpPr/>
            <p:nvPr/>
          </p:nvGrpSpPr>
          <p:grpSpPr>
            <a:xfrm>
              <a:off x="6031080" y="3811680"/>
              <a:ext cx="2523960" cy="1576440"/>
              <a:chOff x="6031080" y="3811680"/>
              <a:chExt cx="2523960" cy="1576440"/>
            </a:xfrm>
          </p:grpSpPr>
          <p:sp>
            <p:nvSpPr>
              <p:cNvPr id="683" name="AutoShape 17"/>
              <p:cNvSpPr/>
              <p:nvPr/>
            </p:nvSpPr>
            <p:spPr>
              <a:xfrm>
                <a:off x="6031080" y="3811680"/>
                <a:ext cx="2523960" cy="1576440"/>
              </a:xfrm>
              <a:prstGeom prst="roundRect">
                <a:avLst>
                  <a:gd name="adj" fmla="val 16667"/>
                </a:avLst>
              </a:prstGeom>
              <a:solidFill>
                <a:srgbClr val="00d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720" rIns="81720" tIns="53640" bIns="406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657360"/>
                    <a:tab algn="l" pos="1312920"/>
                    <a:tab algn="l" pos="1969920"/>
                    <a:tab algn="l" pos="2039760"/>
                    <a:tab algn="l" pos="2448000"/>
                    <a:tab algn="l" pos="2855880"/>
                    <a:tab algn="l" pos="3263760"/>
                    <a:tab algn="l" pos="3672000"/>
                    <a:tab algn="l" pos="4079880"/>
                    <a:tab algn="l" pos="4487760"/>
                    <a:tab algn="l" pos="4896000"/>
                    <a:tab algn="l" pos="5303880"/>
                    <a:tab algn="l" pos="5711760"/>
                    <a:tab algn="l" pos="6119640"/>
                    <a:tab algn="l" pos="6527880"/>
                    <a:tab algn="l" pos="6935760"/>
                    <a:tab algn="l" pos="7343640"/>
                    <a:tab algn="l" pos="7751880"/>
                    <a:tab algn="l" pos="8159760"/>
                    <a:tab algn="l" pos="8567640"/>
                    <a:tab algn="l" pos="8975880"/>
                    <a:tab algn="l" pos="9383760"/>
                    <a:tab algn="l" pos="979164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Pénzügyek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AutoShape 18"/>
              <p:cNvSpPr/>
              <p:nvPr/>
            </p:nvSpPr>
            <p:spPr>
              <a:xfrm>
                <a:off x="6199200" y="4126680"/>
                <a:ext cx="2187000" cy="47268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720" rIns="81720" tIns="53640" bIns="4068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657360"/>
                    <a:tab algn="l" pos="1312920"/>
                    <a:tab algn="l" pos="1969920"/>
                    <a:tab algn="l" pos="2039760"/>
                    <a:tab algn="l" pos="2448000"/>
                    <a:tab algn="l" pos="2855880"/>
                    <a:tab algn="l" pos="3263760"/>
                    <a:tab algn="l" pos="3672000"/>
                    <a:tab algn="l" pos="4079880"/>
                    <a:tab algn="l" pos="4487760"/>
                    <a:tab algn="l" pos="4896000"/>
                    <a:tab algn="l" pos="5303880"/>
                    <a:tab algn="l" pos="5711760"/>
                    <a:tab algn="l" pos="6119640"/>
                    <a:tab algn="l" pos="6527880"/>
                    <a:tab algn="l" pos="6935760"/>
                    <a:tab algn="l" pos="7343640"/>
                    <a:tab algn="l" pos="7751880"/>
                    <a:tab algn="l" pos="8159760"/>
                    <a:tab algn="l" pos="8567640"/>
                    <a:tab algn="l" pos="8975880"/>
                    <a:tab algn="l" pos="9383760"/>
                    <a:tab algn="l" pos="979164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Pénzügyi igazgató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AutoShape 19"/>
              <p:cNvSpPr/>
              <p:nvPr/>
            </p:nvSpPr>
            <p:spPr>
              <a:xfrm>
                <a:off x="6199200" y="4757760"/>
                <a:ext cx="2187000" cy="47304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720" rIns="81720" tIns="53640" bIns="4068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657360"/>
                    <a:tab algn="l" pos="1312920"/>
                    <a:tab algn="l" pos="1969920"/>
                    <a:tab algn="l" pos="2039760"/>
                    <a:tab algn="l" pos="2448000"/>
                    <a:tab algn="l" pos="2855880"/>
                    <a:tab algn="l" pos="3263760"/>
                    <a:tab algn="l" pos="3672000"/>
                    <a:tab algn="l" pos="4079880"/>
                    <a:tab algn="l" pos="4487760"/>
                    <a:tab algn="l" pos="4896000"/>
                    <a:tab algn="l" pos="5303880"/>
                    <a:tab algn="l" pos="5711760"/>
                    <a:tab algn="l" pos="6119640"/>
                    <a:tab algn="l" pos="6527880"/>
                    <a:tab algn="l" pos="6935760"/>
                    <a:tab algn="l" pos="7343640"/>
                    <a:tab algn="l" pos="7751880"/>
                    <a:tab algn="l" pos="8159760"/>
                    <a:tab algn="l" pos="8567640"/>
                    <a:tab algn="l" pos="8975880"/>
                    <a:tab algn="l" pos="9383760"/>
                    <a:tab algn="l" pos="979164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Pénzügyi assziszten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3000"/>
                  </a:lnSpc>
                  <a:tabLst>
                    <a:tab algn="l" pos="0"/>
                    <a:tab algn="l" pos="657360"/>
                    <a:tab algn="l" pos="1312920"/>
                    <a:tab algn="l" pos="1969920"/>
                    <a:tab algn="l" pos="2039760"/>
                    <a:tab algn="l" pos="2448000"/>
                    <a:tab algn="l" pos="2855880"/>
                    <a:tab algn="l" pos="3263760"/>
                    <a:tab algn="l" pos="3672000"/>
                    <a:tab algn="l" pos="4079880"/>
                    <a:tab algn="l" pos="4487760"/>
                    <a:tab algn="l" pos="4896000"/>
                    <a:tab algn="l" pos="5303880"/>
                    <a:tab algn="l" pos="5711760"/>
                    <a:tab algn="l" pos="6119640"/>
                    <a:tab algn="l" pos="6527880"/>
                    <a:tab algn="l" pos="6935760"/>
                    <a:tab algn="l" pos="7343640"/>
                    <a:tab algn="l" pos="7751880"/>
                    <a:tab algn="l" pos="8159760"/>
                    <a:tab algn="l" pos="8567640"/>
                    <a:tab algn="l" pos="8975880"/>
                    <a:tab algn="l" pos="9383760"/>
                    <a:tab algn="l" pos="979164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6" name="Line 23"/>
            <p:cNvSpPr/>
            <p:nvPr/>
          </p:nvSpPr>
          <p:spPr>
            <a:xfrm>
              <a:off x="5873760" y="3652920"/>
              <a:ext cx="79056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24"/>
            <p:cNvSpPr/>
            <p:nvPr/>
          </p:nvSpPr>
          <p:spPr>
            <a:xfrm>
              <a:off x="4611960" y="3022560"/>
              <a:ext cx="144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25"/>
            <p:cNvSpPr/>
            <p:nvPr/>
          </p:nvSpPr>
          <p:spPr>
            <a:xfrm flipH="1">
              <a:off x="1612800" y="4284720"/>
              <a:ext cx="79056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9" name="Group 26"/>
            <p:cNvGrpSpPr/>
            <p:nvPr/>
          </p:nvGrpSpPr>
          <p:grpSpPr>
            <a:xfrm>
              <a:off x="666720" y="3811680"/>
              <a:ext cx="2523960" cy="1576440"/>
              <a:chOff x="666720" y="3811680"/>
              <a:chExt cx="2523960" cy="1576440"/>
            </a:xfrm>
          </p:grpSpPr>
          <p:sp>
            <p:nvSpPr>
              <p:cNvPr id="690" name="AutoShape 27"/>
              <p:cNvSpPr/>
              <p:nvPr/>
            </p:nvSpPr>
            <p:spPr>
              <a:xfrm>
                <a:off x="666720" y="3811680"/>
                <a:ext cx="2523960" cy="1576440"/>
              </a:xfrm>
              <a:prstGeom prst="roundRect">
                <a:avLst>
                  <a:gd name="adj" fmla="val 16667"/>
                </a:avLst>
              </a:prstGeom>
              <a:solidFill>
                <a:srgbClr val="00d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720" rIns="81720" tIns="53640" bIns="406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657360"/>
                    <a:tab algn="l" pos="1312920"/>
                    <a:tab algn="l" pos="1969920"/>
                    <a:tab algn="l" pos="2039760"/>
                    <a:tab algn="l" pos="2448000"/>
                    <a:tab algn="l" pos="2855880"/>
                    <a:tab algn="l" pos="3263760"/>
                    <a:tab algn="l" pos="3672000"/>
                    <a:tab algn="l" pos="4079880"/>
                    <a:tab algn="l" pos="4487760"/>
                    <a:tab algn="l" pos="4896000"/>
                    <a:tab algn="l" pos="5303880"/>
                    <a:tab algn="l" pos="5711760"/>
                    <a:tab algn="l" pos="6119640"/>
                    <a:tab algn="l" pos="6527880"/>
                    <a:tab algn="l" pos="6935760"/>
                    <a:tab algn="l" pos="7343640"/>
                    <a:tab algn="l" pos="7751880"/>
                    <a:tab algn="l" pos="8159760"/>
                    <a:tab algn="l" pos="8567640"/>
                    <a:tab algn="l" pos="8975880"/>
                    <a:tab algn="l" pos="9383760"/>
                    <a:tab algn="l" pos="979164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Projekt menedzsment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AutoShape 28"/>
              <p:cNvSpPr/>
              <p:nvPr/>
            </p:nvSpPr>
            <p:spPr>
              <a:xfrm>
                <a:off x="834840" y="4126680"/>
                <a:ext cx="2187000" cy="47268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720" rIns="81720" tIns="53640" bIns="4068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657360"/>
                    <a:tab algn="l" pos="1312920"/>
                    <a:tab algn="l" pos="1969920"/>
                    <a:tab algn="l" pos="2039760"/>
                    <a:tab algn="l" pos="2448000"/>
                    <a:tab algn="l" pos="2855880"/>
                    <a:tab algn="l" pos="3263760"/>
                    <a:tab algn="l" pos="3672000"/>
                    <a:tab algn="l" pos="4079880"/>
                    <a:tab algn="l" pos="4487760"/>
                    <a:tab algn="l" pos="4896000"/>
                    <a:tab algn="l" pos="5303880"/>
                    <a:tab algn="l" pos="5711760"/>
                    <a:tab algn="l" pos="6119640"/>
                    <a:tab algn="l" pos="6527880"/>
                    <a:tab algn="l" pos="6935760"/>
                    <a:tab algn="l" pos="7343640"/>
                    <a:tab algn="l" pos="7751880"/>
                    <a:tab algn="l" pos="8159760"/>
                    <a:tab algn="l" pos="8567640"/>
                    <a:tab algn="l" pos="8975880"/>
                    <a:tab algn="l" pos="9383760"/>
                    <a:tab algn="l" pos="979164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Projekt menedzser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3000"/>
                  </a:lnSpc>
                  <a:tabLst>
                    <a:tab algn="l" pos="0"/>
                    <a:tab algn="l" pos="657360"/>
                    <a:tab algn="l" pos="1312920"/>
                    <a:tab algn="l" pos="1969920"/>
                    <a:tab algn="l" pos="2039760"/>
                    <a:tab algn="l" pos="2448000"/>
                    <a:tab algn="l" pos="2855880"/>
                    <a:tab algn="l" pos="3263760"/>
                    <a:tab algn="l" pos="3672000"/>
                    <a:tab algn="l" pos="4079880"/>
                    <a:tab algn="l" pos="4487760"/>
                    <a:tab algn="l" pos="4896000"/>
                    <a:tab algn="l" pos="5303880"/>
                    <a:tab algn="l" pos="5711760"/>
                    <a:tab algn="l" pos="6119640"/>
                    <a:tab algn="l" pos="6527880"/>
                    <a:tab algn="l" pos="6935760"/>
                    <a:tab algn="l" pos="7343640"/>
                    <a:tab algn="l" pos="7751880"/>
                    <a:tab algn="l" pos="8159760"/>
                    <a:tab algn="l" pos="8567640"/>
                    <a:tab algn="l" pos="8975880"/>
                    <a:tab algn="l" pos="9383760"/>
                    <a:tab algn="l" pos="979164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AutoShape 29"/>
              <p:cNvSpPr/>
              <p:nvPr/>
            </p:nvSpPr>
            <p:spPr>
              <a:xfrm>
                <a:off x="834840" y="4757760"/>
                <a:ext cx="2187000" cy="47304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720" rIns="81720" tIns="53640" bIns="4068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657360"/>
                    <a:tab algn="l" pos="1312920"/>
                    <a:tab algn="l" pos="1969920"/>
                    <a:tab algn="l" pos="2039760"/>
                    <a:tab algn="l" pos="2448000"/>
                    <a:tab algn="l" pos="2855880"/>
                    <a:tab algn="l" pos="3263760"/>
                    <a:tab algn="l" pos="3672000"/>
                    <a:tab algn="l" pos="4079880"/>
                    <a:tab algn="l" pos="4487760"/>
                    <a:tab algn="l" pos="4896000"/>
                    <a:tab algn="l" pos="5303880"/>
                    <a:tab algn="l" pos="5711760"/>
                    <a:tab algn="l" pos="6119640"/>
                    <a:tab algn="l" pos="6527880"/>
                    <a:tab algn="l" pos="6935760"/>
                    <a:tab algn="l" pos="7343640"/>
                    <a:tab algn="l" pos="7751880"/>
                    <a:tab algn="l" pos="8159760"/>
                    <a:tab algn="l" pos="8567640"/>
                    <a:tab algn="l" pos="8975880"/>
                    <a:tab algn="l" pos="9383760"/>
                    <a:tab algn="l" pos="979164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Adminisztratív assziszten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3000"/>
                  </a:lnSpc>
                  <a:tabLst>
                    <a:tab algn="l" pos="0"/>
                    <a:tab algn="l" pos="657360"/>
                    <a:tab algn="l" pos="1312920"/>
                    <a:tab algn="l" pos="1969920"/>
                    <a:tab algn="l" pos="2039760"/>
                    <a:tab algn="l" pos="2448000"/>
                    <a:tab algn="l" pos="2855880"/>
                    <a:tab algn="l" pos="3263760"/>
                    <a:tab algn="l" pos="3672000"/>
                    <a:tab algn="l" pos="4079880"/>
                    <a:tab algn="l" pos="4487760"/>
                    <a:tab algn="l" pos="4896000"/>
                    <a:tab algn="l" pos="5303880"/>
                    <a:tab algn="l" pos="5711760"/>
                    <a:tab algn="l" pos="6119640"/>
                    <a:tab algn="l" pos="6527880"/>
                    <a:tab algn="l" pos="6935760"/>
                    <a:tab algn="l" pos="7343640"/>
                    <a:tab algn="l" pos="7751880"/>
                    <a:tab algn="l" pos="8159760"/>
                    <a:tab algn="l" pos="8567640"/>
                    <a:tab algn="l" pos="8975880"/>
                    <a:tab algn="l" pos="9383760"/>
                    <a:tab algn="l" pos="979164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3" name="Line 30"/>
            <p:cNvSpPr/>
            <p:nvPr/>
          </p:nvSpPr>
          <p:spPr>
            <a:xfrm>
              <a:off x="3033720" y="4441680"/>
              <a:ext cx="631800" cy="38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31"/>
            <p:cNvSpPr/>
            <p:nvPr/>
          </p:nvSpPr>
          <p:spPr>
            <a:xfrm flipH="1">
              <a:off x="2557440" y="3652920"/>
              <a:ext cx="79200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32"/>
            <p:cNvSpPr/>
            <p:nvPr/>
          </p:nvSpPr>
          <p:spPr>
            <a:xfrm>
              <a:off x="3033720" y="4284720"/>
              <a:ext cx="3155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Csoportba foglalás 9"/>
          <p:cNvGrpSpPr/>
          <p:nvPr/>
        </p:nvGrpSpPr>
        <p:grpSpPr>
          <a:xfrm>
            <a:off x="1433520" y="5389560"/>
            <a:ext cx="6313320" cy="1104840"/>
            <a:chOff x="1433520" y="5389560"/>
            <a:chExt cx="6313320" cy="1104840"/>
          </a:xfrm>
        </p:grpSpPr>
        <p:sp>
          <p:nvSpPr>
            <p:cNvPr id="697" name="AutoShape 5"/>
            <p:cNvSpPr/>
            <p:nvPr/>
          </p:nvSpPr>
          <p:spPr>
            <a:xfrm>
              <a:off x="1773000" y="5705280"/>
              <a:ext cx="1528560" cy="3142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53640" bIns="406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ari képviselő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AutoShape 6"/>
            <p:cNvSpPr/>
            <p:nvPr/>
          </p:nvSpPr>
          <p:spPr>
            <a:xfrm>
              <a:off x="1433520" y="6178680"/>
              <a:ext cx="2209680" cy="3157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53640" bIns="406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oktori iskolák képviselő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AutoShape 7"/>
            <p:cNvSpPr/>
            <p:nvPr/>
          </p:nvSpPr>
          <p:spPr>
            <a:xfrm>
              <a:off x="3800520" y="5705280"/>
              <a:ext cx="1577880" cy="3142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53640" bIns="406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ÖK képviselő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AutoShape 8"/>
            <p:cNvSpPr/>
            <p:nvPr/>
          </p:nvSpPr>
          <p:spPr>
            <a:xfrm>
              <a:off x="3800520" y="6178680"/>
              <a:ext cx="1577880" cy="3157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53640" bIns="406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zakkollégiumo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AutoShape 9"/>
            <p:cNvSpPr/>
            <p:nvPr/>
          </p:nvSpPr>
          <p:spPr>
            <a:xfrm>
              <a:off x="5537160" y="5705280"/>
              <a:ext cx="2209680" cy="3142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53640" bIns="406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gyetemi TDK képviselő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AutoShape 10"/>
            <p:cNvSpPr/>
            <p:nvPr/>
          </p:nvSpPr>
          <p:spPr>
            <a:xfrm>
              <a:off x="5637240" y="6178680"/>
              <a:ext cx="2041560" cy="3157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53640" bIns="406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ari TDK képviselő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20"/>
            <p:cNvSpPr/>
            <p:nvPr/>
          </p:nvSpPr>
          <p:spPr>
            <a:xfrm>
              <a:off x="2536560" y="6019920"/>
              <a:ext cx="144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21"/>
            <p:cNvSpPr/>
            <p:nvPr/>
          </p:nvSpPr>
          <p:spPr>
            <a:xfrm>
              <a:off x="4589280" y="6019920"/>
              <a:ext cx="144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22"/>
            <p:cNvSpPr/>
            <p:nvPr/>
          </p:nvSpPr>
          <p:spPr>
            <a:xfrm>
              <a:off x="6642000" y="6019920"/>
              <a:ext cx="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33"/>
            <p:cNvSpPr/>
            <p:nvPr/>
          </p:nvSpPr>
          <p:spPr>
            <a:xfrm>
              <a:off x="2381040" y="5389560"/>
              <a:ext cx="15696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34"/>
            <p:cNvSpPr/>
            <p:nvPr/>
          </p:nvSpPr>
          <p:spPr>
            <a:xfrm>
              <a:off x="2536560" y="5389560"/>
              <a:ext cx="205236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35"/>
            <p:cNvSpPr/>
            <p:nvPr/>
          </p:nvSpPr>
          <p:spPr>
            <a:xfrm>
              <a:off x="3011400" y="5389560"/>
              <a:ext cx="363060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Text Box 36"/>
          <p:cNvSpPr/>
          <p:nvPr/>
        </p:nvSpPr>
        <p:spPr>
          <a:xfrm>
            <a:off x="457200" y="763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zervezeti felépí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Csoportba foglalás 8"/>
          <p:cNvGrpSpPr/>
          <p:nvPr/>
        </p:nvGrpSpPr>
        <p:grpSpPr>
          <a:xfrm>
            <a:off x="247680" y="785880"/>
            <a:ext cx="8582040" cy="1109520"/>
            <a:chOff x="247680" y="785880"/>
            <a:chExt cx="8582040" cy="1109520"/>
          </a:xfrm>
        </p:grpSpPr>
        <p:sp>
          <p:nvSpPr>
            <p:cNvPr id="711" name="Folyamatábra: Másik feldolgozás 2"/>
            <p:cNvSpPr/>
            <p:nvPr/>
          </p:nvSpPr>
          <p:spPr>
            <a:xfrm>
              <a:off x="6261120" y="919800"/>
              <a:ext cx="2568600" cy="75996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3 tagú felügyelő bizottsá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olyamatábra: Másik feldolgozás 40"/>
            <p:cNvSpPr/>
            <p:nvPr/>
          </p:nvSpPr>
          <p:spPr>
            <a:xfrm>
              <a:off x="247680" y="785880"/>
              <a:ext cx="3519360" cy="108936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Egyetemi bizottságok és döntéshozó szervek (szenátus, EHBDT, T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3" name="Egyenes összekötő nyíllal 4"/>
            <p:cNvCxnSpPr/>
            <p:nvPr/>
          </p:nvCxnSpPr>
          <p:spPr>
            <a:xfrm>
              <a:off x="2133000" y="1773720"/>
              <a:ext cx="269640" cy="12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4" name="Egyenes összekötő nyíllal 6"/>
            <p:cNvCxnSpPr>
              <a:stCxn id="711" idx="2"/>
            </p:cNvCxnSpPr>
            <p:nvPr/>
          </p:nvCxnSpPr>
          <p:spPr>
            <a:xfrm flipH="1">
              <a:off x="7162200" y="1608840"/>
              <a:ext cx="383400" cy="28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15" name="Szövegdoboz 7"/>
            <p:cNvSpPr/>
            <p:nvPr/>
          </p:nvSpPr>
          <p:spPr>
            <a:xfrm>
              <a:off x="4038480" y="10324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felügyel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-360" y="261720"/>
            <a:ext cx="641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Calibri"/>
              </a:rPr>
              <a:t>Szakmai megvalósítás – DI-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Doktori Iskolák kutatásai: nagy komplex rendszerek szimulációja és optimalizál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8" name="Csoportba foglalás 17"/>
          <p:cNvGrpSpPr/>
          <p:nvPr/>
        </p:nvGrpSpPr>
        <p:grpSpPr>
          <a:xfrm>
            <a:off x="630360" y="2738520"/>
            <a:ext cx="7777080" cy="3228120"/>
            <a:chOff x="630360" y="2738520"/>
            <a:chExt cx="7777080" cy="3228120"/>
          </a:xfrm>
        </p:grpSpPr>
        <p:pic>
          <p:nvPicPr>
            <p:cNvPr id="719" name="Picture 3" descr=""/>
            <p:cNvPicPr/>
            <p:nvPr/>
          </p:nvPicPr>
          <p:blipFill>
            <a:blip r:embed="rId1"/>
            <a:stretch/>
          </p:blipFill>
          <p:spPr>
            <a:xfrm>
              <a:off x="1194120" y="3003480"/>
              <a:ext cx="1847520" cy="246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Szövegdoboz 1"/>
            <p:cNvSpPr/>
            <p:nvPr/>
          </p:nvSpPr>
          <p:spPr>
            <a:xfrm>
              <a:off x="630360" y="5598360"/>
              <a:ext cx="361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laszteralapú szuperszámítógé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Szövegdoboz 2"/>
            <p:cNvSpPr/>
            <p:nvPr/>
          </p:nvSpPr>
          <p:spPr>
            <a:xfrm>
              <a:off x="4248000" y="2738520"/>
              <a:ext cx="408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ávközlő és energetikai hálózatok modellezése és optimalizálá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Szövegdoboz 7"/>
            <p:cNvSpPr/>
            <p:nvPr/>
          </p:nvSpPr>
          <p:spPr>
            <a:xfrm>
              <a:off x="4248000" y="3483360"/>
              <a:ext cx="408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omplex mechanikai rendszerek modellezése és optimalizálá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Szövegdoboz 8"/>
            <p:cNvSpPr/>
            <p:nvPr/>
          </p:nvSpPr>
          <p:spPr>
            <a:xfrm>
              <a:off x="4248000" y="4329720"/>
              <a:ext cx="4086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Statikai számítások, térszimulációk, akusztikus modellezés,  végeselem módszer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Szövegdoboz 9"/>
            <p:cNvSpPr/>
            <p:nvPr/>
          </p:nvSpPr>
          <p:spPr>
            <a:xfrm>
              <a:off x="4320720" y="5256360"/>
              <a:ext cx="408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gyipari folyamatok modellezése és optimalizálá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5" name="Egyenes összekötő nyíllal 4"/>
            <p:cNvCxnSpPr>
              <a:endCxn id="721" idx="1"/>
            </p:cNvCxnSpPr>
            <p:nvPr/>
          </p:nvCxnSpPr>
          <p:spPr>
            <a:xfrm flipV="1">
              <a:off x="3340080" y="3061440"/>
              <a:ext cx="908640" cy="57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6" name="Egyenes összekötő nyíllal 12"/>
            <p:cNvCxnSpPr/>
            <p:nvPr/>
          </p:nvCxnSpPr>
          <p:spPr>
            <a:xfrm>
              <a:off x="3317760" y="3893760"/>
              <a:ext cx="930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7" name="Egyenes összekötő nyíllal 15"/>
            <p:cNvCxnSpPr/>
            <p:nvPr/>
          </p:nvCxnSpPr>
          <p:spPr>
            <a:xfrm>
              <a:off x="3340080" y="4237200"/>
              <a:ext cx="908640" cy="319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8" name="Egyenes összekötő nyíllal 19"/>
            <p:cNvCxnSpPr>
              <a:endCxn id="724" idx="1"/>
            </p:cNvCxnSpPr>
            <p:nvPr/>
          </p:nvCxnSpPr>
          <p:spPr>
            <a:xfrm>
              <a:off x="3317400" y="4686480"/>
              <a:ext cx="1003680" cy="89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198000"/>
            <a:ext cx="617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DI-k a konkrét számok tükréb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0" name="Picture 280" descr=""/>
          <p:cNvPicPr/>
          <p:nvPr/>
        </p:nvPicPr>
        <p:blipFill>
          <a:blip r:embed="rId1"/>
          <a:stretch/>
        </p:blipFill>
        <p:spPr>
          <a:xfrm>
            <a:off x="192240" y="1714680"/>
            <a:ext cx="8415360" cy="445284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>
            <a:off x="8040600" y="1673280"/>
            <a:ext cx="601920" cy="4492440"/>
          </a:xfrm>
          <a:prstGeom prst="rect">
            <a:avLst/>
          </a:prstGeom>
          <a:solidFill>
            <a:srgbClr val="4f81bd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-360" y="261720"/>
            <a:ext cx="641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Calibri"/>
              </a:rPr>
              <a:t>Szakmai megvalósítás – TD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633320"/>
            <a:ext cx="426564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A TDK-val kapcsolatos adminisztrációs web-portál létrehozása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4" name="Picture 265" descr=""/>
          <p:cNvPicPr/>
          <p:nvPr/>
        </p:nvPicPr>
        <p:blipFill>
          <a:blip r:embed="rId1"/>
          <a:stretch/>
        </p:blipFill>
        <p:spPr>
          <a:xfrm>
            <a:off x="325440" y="2104920"/>
            <a:ext cx="3811680" cy="4129200"/>
          </a:xfrm>
          <a:prstGeom prst="rect">
            <a:avLst/>
          </a:prstGeom>
          <a:ln w="0">
            <a:noFill/>
          </a:ln>
        </p:spPr>
      </p:pic>
      <p:grpSp>
        <p:nvGrpSpPr>
          <p:cNvPr id="735" name="Group 280"/>
          <p:cNvGrpSpPr/>
          <p:nvPr/>
        </p:nvGrpSpPr>
        <p:grpSpPr>
          <a:xfrm>
            <a:off x="3916440" y="1749600"/>
            <a:ext cx="5094360" cy="4415760"/>
            <a:chOff x="3916440" y="1749600"/>
            <a:chExt cx="5094360" cy="4415760"/>
          </a:xfrm>
        </p:grpSpPr>
        <p:sp>
          <p:nvSpPr>
            <p:cNvPr id="736" name="AutoShape 275"/>
            <p:cNvSpPr/>
            <p:nvPr/>
          </p:nvSpPr>
          <p:spPr>
            <a:xfrm>
              <a:off x="4968720" y="3932280"/>
              <a:ext cx="154080" cy="177840"/>
            </a:xfrm>
            <a:prstGeom prst="downArrow">
              <a:avLst>
                <a:gd name="adj1" fmla="val 50000"/>
                <a:gd name="adj2" fmla="val 28855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7" name="Group 279"/>
            <p:cNvGrpSpPr/>
            <p:nvPr/>
          </p:nvGrpSpPr>
          <p:grpSpPr>
            <a:xfrm>
              <a:off x="3916440" y="1749600"/>
              <a:ext cx="5092560" cy="3727440"/>
              <a:chOff x="3916440" y="1749600"/>
              <a:chExt cx="5092560" cy="3727440"/>
            </a:xfrm>
          </p:grpSpPr>
          <p:sp>
            <p:nvSpPr>
              <p:cNvPr id="738" name="Text Box 266"/>
              <p:cNvSpPr/>
              <p:nvPr/>
            </p:nvSpPr>
            <p:spPr>
              <a:xfrm>
                <a:off x="6356520" y="2776680"/>
                <a:ext cx="161892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800" spc="-1" strike="noStrike">
                    <a:solidFill>
                      <a:srgbClr val="000000"/>
                    </a:solidFill>
                    <a:latin typeface="Arial"/>
                  </a:rPr>
                  <a:t>BS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Text Box 267"/>
              <p:cNvSpPr/>
              <p:nvPr/>
            </p:nvSpPr>
            <p:spPr>
              <a:xfrm>
                <a:off x="6416640" y="3740040"/>
                <a:ext cx="16192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8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Text Box 268"/>
              <p:cNvSpPr/>
              <p:nvPr/>
            </p:nvSpPr>
            <p:spPr>
              <a:xfrm>
                <a:off x="6461280" y="4898880"/>
                <a:ext cx="161892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800" spc="-1" strike="noStrike">
                    <a:solidFill>
                      <a:srgbClr val="000000"/>
                    </a:solidFill>
                    <a:latin typeface="Arial"/>
                  </a:rPr>
                  <a:t>Ph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Rectangle 3"/>
              <p:cNvSpPr/>
              <p:nvPr/>
            </p:nvSpPr>
            <p:spPr>
              <a:xfrm>
                <a:off x="4743360" y="1749600"/>
                <a:ext cx="426564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0000"/>
                    </a:solidFill>
                    <a:latin typeface="Calibri"/>
                  </a:rPr>
                  <a:t>A TDK mint a tudományos életút felé orientáló műhelymunka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AutoShape 271"/>
              <p:cNvSpPr/>
              <p:nvPr/>
            </p:nvSpPr>
            <p:spPr>
              <a:xfrm>
                <a:off x="6059520" y="2633760"/>
                <a:ext cx="154080" cy="1663560"/>
              </a:xfrm>
              <a:custGeom>
                <a:avLst/>
                <a:gdLst>
                  <a:gd name="textAreaLeft" fmla="*/ 98640 w 154080"/>
                  <a:gd name="textAreaRight" fmla="*/ 154440 w 154080"/>
                  <a:gd name="textAreaTop" fmla="*/ 43200 h 1663560"/>
                  <a:gd name="textAreaBottom" fmla="*/ 1620360 h 16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3" name="Picture 272" descr=""/>
              <p:cNvPicPr/>
              <p:nvPr/>
            </p:nvPicPr>
            <p:blipFill>
              <a:blip r:embed="rId2"/>
              <a:stretch/>
            </p:blipFill>
            <p:spPr>
              <a:xfrm>
                <a:off x="3916440" y="2589120"/>
                <a:ext cx="1882800" cy="134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4" name="Picture 273" descr=""/>
              <p:cNvPicPr/>
              <p:nvPr/>
            </p:nvPicPr>
            <p:blipFill>
              <a:blip r:embed="rId3"/>
              <a:stretch/>
            </p:blipFill>
            <p:spPr>
              <a:xfrm>
                <a:off x="4010040" y="4116240"/>
                <a:ext cx="1905120" cy="136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5" name="AutoShape 276"/>
              <p:cNvSpPr/>
              <p:nvPr/>
            </p:nvSpPr>
            <p:spPr>
              <a:xfrm>
                <a:off x="5872320" y="4979880"/>
                <a:ext cx="529920" cy="220680"/>
              </a:xfrm>
              <a:prstGeom prst="rightArrow">
                <a:avLst>
                  <a:gd name="adj1" fmla="val 50000"/>
                  <a:gd name="adj2" fmla="val 60033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AutoShape 277"/>
              <p:cNvSpPr/>
              <p:nvPr/>
            </p:nvSpPr>
            <p:spPr>
              <a:xfrm>
                <a:off x="5783400" y="3414600"/>
                <a:ext cx="341280" cy="165240"/>
              </a:xfrm>
              <a:prstGeom prst="leftArrow">
                <a:avLst>
                  <a:gd name="adj1" fmla="val 50000"/>
                  <a:gd name="adj2" fmla="val 51634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7" name="Text Box 278"/>
            <p:cNvSpPr/>
            <p:nvPr/>
          </p:nvSpPr>
          <p:spPr>
            <a:xfrm>
              <a:off x="4098960" y="5584680"/>
              <a:ext cx="4911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Műegyetemi tudományos alkotóközösségekbe való integrálás rendszeres szemináriumi élett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-360" y="261720"/>
            <a:ext cx="641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Calibri"/>
              </a:rPr>
              <a:t>Szakmai megvalósítás – Szakkollégium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9" name="Group 27"/>
          <p:cNvGrpSpPr/>
          <p:nvPr/>
        </p:nvGrpSpPr>
        <p:grpSpPr>
          <a:xfrm>
            <a:off x="0" y="3963960"/>
            <a:ext cx="8901000" cy="2230560"/>
            <a:chOff x="0" y="3963960"/>
            <a:chExt cx="8901000" cy="2230560"/>
          </a:xfrm>
        </p:grpSpPr>
        <p:pic>
          <p:nvPicPr>
            <p:cNvPr id="750" name="Picture 436" descr=""/>
            <p:cNvPicPr/>
            <p:nvPr/>
          </p:nvPicPr>
          <p:blipFill>
            <a:blip r:embed="rId1"/>
            <a:stretch/>
          </p:blipFill>
          <p:spPr>
            <a:xfrm>
              <a:off x="2962440" y="4584600"/>
              <a:ext cx="2368440" cy="142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1" name="Picture 437" descr=""/>
            <p:cNvPicPr/>
            <p:nvPr/>
          </p:nvPicPr>
          <p:blipFill>
            <a:blip r:embed="rId2"/>
            <a:stretch/>
          </p:blipFill>
          <p:spPr>
            <a:xfrm>
              <a:off x="154080" y="4373640"/>
              <a:ext cx="2143080" cy="18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38" descr=""/>
            <p:cNvPicPr/>
            <p:nvPr/>
          </p:nvPicPr>
          <p:blipFill>
            <a:blip r:embed="rId3"/>
            <a:stretch/>
          </p:blipFill>
          <p:spPr>
            <a:xfrm>
              <a:off x="5987880" y="4494240"/>
              <a:ext cx="240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Text Box 440"/>
            <p:cNvSpPr/>
            <p:nvPr/>
          </p:nvSpPr>
          <p:spPr>
            <a:xfrm>
              <a:off x="6014880" y="4043520"/>
              <a:ext cx="288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pl. gönyűi erőmű, völgyhí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Text Box 441"/>
            <p:cNvSpPr/>
            <p:nvPr/>
          </p:nvSpPr>
          <p:spPr>
            <a:xfrm>
              <a:off x="0" y="3963960"/>
              <a:ext cx="287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pl. Simonyi konferenc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Text Box 442"/>
            <p:cNvSpPr/>
            <p:nvPr/>
          </p:nvSpPr>
          <p:spPr>
            <a:xfrm>
              <a:off x="2644920" y="4043520"/>
              <a:ext cx="34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pl. BME Fomula Racing Tea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287280" y="1305000"/>
            <a:ext cx="6851880" cy="2567880"/>
            <a:chOff x="287280" y="1305000"/>
            <a:chExt cx="6851880" cy="2567880"/>
          </a:xfrm>
        </p:grpSpPr>
        <p:sp>
          <p:nvSpPr>
            <p:cNvPr id="757" name="Text Box 439"/>
            <p:cNvSpPr/>
            <p:nvPr/>
          </p:nvSpPr>
          <p:spPr>
            <a:xfrm>
              <a:off x="287280" y="3413160"/>
              <a:ext cx="68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Arial"/>
                </a:rPr>
                <a:t>Képzések,  versenyek, tanulmányi kiránduláso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Text Box 12"/>
            <p:cNvSpPr/>
            <p:nvPr/>
          </p:nvSpPr>
          <p:spPr>
            <a:xfrm rot="16200000">
              <a:off x="155880" y="2187000"/>
              <a:ext cx="16207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Építőmérnöki kol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Text Box 13"/>
            <p:cNvSpPr/>
            <p:nvPr/>
          </p:nvSpPr>
          <p:spPr>
            <a:xfrm rot="16200000">
              <a:off x="1105200" y="2252160"/>
              <a:ext cx="16524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Közkmérnöki kol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Text Box 14"/>
            <p:cNvSpPr/>
            <p:nvPr/>
          </p:nvSpPr>
          <p:spPr>
            <a:xfrm rot="16200000">
              <a:off x="1941480" y="2226600"/>
              <a:ext cx="161136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Szent-györgyi ko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Text Box 15"/>
            <p:cNvSpPr/>
            <p:nvPr/>
          </p:nvSpPr>
          <p:spPr>
            <a:xfrm rot="16200000">
              <a:off x="2749680" y="2217240"/>
              <a:ext cx="16207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Építítész  kol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16"/>
            <p:cNvSpPr/>
            <p:nvPr/>
          </p:nvSpPr>
          <p:spPr>
            <a:xfrm rot="16200000">
              <a:off x="3645000" y="2215440"/>
              <a:ext cx="162108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Liska Tibor kol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Text Box 17"/>
            <p:cNvSpPr/>
            <p:nvPr/>
          </p:nvSpPr>
          <p:spPr>
            <a:xfrm rot="16200000">
              <a:off x="4470480" y="2214000"/>
              <a:ext cx="16207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Simonyi kol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18"/>
            <p:cNvSpPr/>
            <p:nvPr/>
          </p:nvSpPr>
          <p:spPr>
            <a:xfrm flipH="1">
              <a:off x="1233000" y="1355760"/>
              <a:ext cx="87012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19"/>
            <p:cNvSpPr/>
            <p:nvPr/>
          </p:nvSpPr>
          <p:spPr>
            <a:xfrm flipH="1">
              <a:off x="2055600" y="1319040"/>
              <a:ext cx="23004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20"/>
            <p:cNvSpPr/>
            <p:nvPr/>
          </p:nvSpPr>
          <p:spPr>
            <a:xfrm>
              <a:off x="2720880" y="1347840"/>
              <a:ext cx="180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21"/>
            <p:cNvSpPr/>
            <p:nvPr/>
          </p:nvSpPr>
          <p:spPr>
            <a:xfrm>
              <a:off x="3305160" y="1359000"/>
              <a:ext cx="23328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22"/>
            <p:cNvSpPr/>
            <p:nvPr/>
          </p:nvSpPr>
          <p:spPr>
            <a:xfrm>
              <a:off x="3956040" y="1359000"/>
              <a:ext cx="441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23"/>
            <p:cNvSpPr/>
            <p:nvPr/>
          </p:nvSpPr>
          <p:spPr>
            <a:xfrm>
              <a:off x="4794120" y="1359000"/>
              <a:ext cx="486000" cy="1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AutoShape 25"/>
            <p:cNvSpPr/>
            <p:nvPr/>
          </p:nvSpPr>
          <p:spPr>
            <a:xfrm rot="16200000">
              <a:off x="3411360" y="436320"/>
              <a:ext cx="241200" cy="5676840"/>
            </a:xfrm>
            <a:custGeom>
              <a:avLst/>
              <a:gdLst>
                <a:gd name="textAreaLeft" fmla="*/ 154080 w 241200"/>
                <a:gd name="textAreaRight" fmla="*/ 241560 w 241200"/>
                <a:gd name="textAreaTop" fmla="*/ 147960 h 5676840"/>
                <a:gd name="textAreaBottom" fmla="*/ 5528880 h 567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17"/>
            <p:cNvSpPr/>
            <p:nvPr/>
          </p:nvSpPr>
          <p:spPr>
            <a:xfrm rot="16200000">
              <a:off x="5223240" y="2217240"/>
              <a:ext cx="16207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nedzs. k</a:t>
              </a: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ol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084640" y="1305000"/>
              <a:ext cx="98136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-360" y="307440"/>
            <a:ext cx="5925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Jelenlegi állap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51920" y="1839600"/>
            <a:ext cx="922356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Projektiroda megalapít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Adminisztratív működési szabályzat kidolgoz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Klaszteralapú számítógép beszerzés ala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Szakmai és kutatási terv folyamatb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A DI kutatások elkezdődt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Szakkollégiumi és TDK-s tevékenységek elkezdődt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Csoportba foglalás 14"/>
          <p:cNvGrpSpPr/>
          <p:nvPr/>
        </p:nvGrpSpPr>
        <p:grpSpPr>
          <a:xfrm>
            <a:off x="17640" y="1574640"/>
            <a:ext cx="8947080" cy="2198880"/>
            <a:chOff x="17640" y="1574640"/>
            <a:chExt cx="8947080" cy="2198880"/>
          </a:xfrm>
        </p:grpSpPr>
        <p:graphicFrame>
          <p:nvGraphicFramePr>
            <p:cNvPr id="776" name="Objektum 4"/>
            <p:cNvGraphicFramePr/>
            <p:nvPr/>
          </p:nvGraphicFramePr>
          <p:xfrm>
            <a:off x="2294640" y="2877480"/>
            <a:ext cx="3933720" cy="896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77" name="Objektum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2877480"/>
                      <a:ext cx="3933720" cy="89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8" name="Téglalap 5"/>
            <p:cNvSpPr/>
            <p:nvPr/>
          </p:nvSpPr>
          <p:spPr>
            <a:xfrm>
              <a:off x="17640" y="1613880"/>
              <a:ext cx="291888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„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Minőségorientált, összehangolt oktatási és K+F+I stratégia, valamint működési modell kidolgozása a Műegyetemen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(TÁMOP-4.2.1/B-09/1/KMR-2010-0002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Cím 1"/>
            <p:cNvSpPr/>
            <p:nvPr/>
          </p:nvSpPr>
          <p:spPr>
            <a:xfrm>
              <a:off x="6228720" y="1574640"/>
              <a:ext cx="2736000" cy="83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Új tehetséggondozó programok és kutatások a Műegyetem tudományos műhelyeib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TÁMOP-4.2.2/B-10/1-2010-0009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0" name="Egyenes összekötő nyíllal 6"/>
            <p:cNvCxnSpPr/>
            <p:nvPr/>
          </p:nvCxnSpPr>
          <p:spPr>
            <a:xfrm>
              <a:off x="2620800" y="2522880"/>
              <a:ext cx="400680" cy="27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1" name="Egyenes összekötő nyíllal 7"/>
            <p:cNvCxnSpPr/>
            <p:nvPr/>
          </p:nvCxnSpPr>
          <p:spPr>
            <a:xfrm flipH="1">
              <a:off x="5652000" y="2484720"/>
              <a:ext cx="489600" cy="295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82" name="Téglalap 5"/>
            <p:cNvSpPr/>
            <p:nvPr/>
          </p:nvSpPr>
          <p:spPr>
            <a:xfrm>
              <a:off x="3037320" y="1574640"/>
              <a:ext cx="298548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Arial"/>
                </a:rPr>
                <a:t>„</a:t>
              </a:r>
              <a:r>
                <a:rPr b="0" lang="hu-HU" sz="1200" spc="-1" strike="noStrike">
                  <a:solidFill>
                    <a:srgbClr val="000000"/>
                  </a:solidFill>
                  <a:latin typeface="Calibri"/>
                </a:rPr>
                <a:t>Tudáshasznosulást, tud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. </a:t>
              </a:r>
              <a:r>
                <a:rPr b="0" lang="hu-HU" sz="1200" spc="-1" strike="noStrike">
                  <a:solidFill>
                    <a:srgbClr val="000000"/>
                  </a:solidFill>
                  <a:latin typeface="Calibri"/>
                </a:rPr>
                <a:t>transzfert  segítő  eszköz-és feltételrendszer kialkítása, fejlesztése a Műeg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r>
                <a:rPr b="0" lang="hu-HU" sz="1200" spc="-1" strike="noStrike">
                  <a:solidFill>
                    <a:srgbClr val="000000"/>
                  </a:solidFill>
                  <a:latin typeface="Calibri"/>
                </a:rPr>
                <a:t>etemen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000000"/>
                  </a:solidFill>
                  <a:latin typeface="Calibri"/>
                </a:rPr>
                <a:t>(TÁMOP -4.2-1-08/KMR-2008-000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3" name="Egyenes összekötő nyíllal 9"/>
            <p:cNvCxnSpPr/>
            <p:nvPr/>
          </p:nvCxnSpPr>
          <p:spPr>
            <a:xfrm>
              <a:off x="4344120" y="2445120"/>
              <a:ext cx="1080" cy="347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784" name="Téglalap 5"/>
          <p:cNvSpPr/>
          <p:nvPr/>
        </p:nvSpPr>
        <p:spPr>
          <a:xfrm>
            <a:off x="1039680" y="3965400"/>
            <a:ext cx="679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70c0"/>
                </a:solidFill>
                <a:latin typeface="Arial"/>
              </a:rPr>
              <a:t>Integrált t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ehets</a:t>
            </a:r>
            <a:r>
              <a:rPr b="1" lang="hu-HU" sz="1600" spc="-1" strike="noStrike">
                <a:solidFill>
                  <a:srgbClr val="0070c0"/>
                </a:solidFill>
                <a:latin typeface="Arial"/>
              </a:rPr>
              <a:t>é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ggondoz</a:t>
            </a:r>
            <a:r>
              <a:rPr b="1" lang="hu-HU" sz="1600" spc="-1" strike="noStrike">
                <a:solidFill>
                  <a:srgbClr val="0070c0"/>
                </a:solidFill>
                <a:latin typeface="Arial"/>
              </a:rPr>
              <a:t>ás kutatói és innovatív környezetben 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Csoportba foglalás 1"/>
          <p:cNvGrpSpPr/>
          <p:nvPr/>
        </p:nvGrpSpPr>
        <p:grpSpPr>
          <a:xfrm>
            <a:off x="825480" y="4537080"/>
            <a:ext cx="6540480" cy="1485720"/>
            <a:chOff x="825480" y="4537080"/>
            <a:chExt cx="6540480" cy="1485720"/>
          </a:xfrm>
        </p:grpSpPr>
        <p:pic>
          <p:nvPicPr>
            <p:cNvPr id="786" name="Picture 2" descr=""/>
            <p:cNvPicPr/>
            <p:nvPr/>
          </p:nvPicPr>
          <p:blipFill>
            <a:blip r:embed="rId3"/>
            <a:stretch/>
          </p:blipFill>
          <p:spPr>
            <a:xfrm>
              <a:off x="825480" y="4537080"/>
              <a:ext cx="1571760" cy="148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7" name="Picture 3" descr=""/>
            <p:cNvPicPr/>
            <p:nvPr/>
          </p:nvPicPr>
          <p:blipFill>
            <a:blip r:embed="rId4"/>
            <a:stretch/>
          </p:blipFill>
          <p:spPr>
            <a:xfrm>
              <a:off x="3167280" y="4582080"/>
              <a:ext cx="1781640" cy="133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" descr=""/>
            <p:cNvPicPr/>
            <p:nvPr/>
          </p:nvPicPr>
          <p:blipFill>
            <a:blip r:embed="rId5"/>
            <a:stretch/>
          </p:blipFill>
          <p:spPr>
            <a:xfrm>
              <a:off x="5536080" y="4641480"/>
              <a:ext cx="1829880" cy="127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"/>
          <p:cNvSpPr/>
          <p:nvPr/>
        </p:nvSpPr>
        <p:spPr>
          <a:xfrm>
            <a:off x="301680" y="301680"/>
            <a:ext cx="561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Összefoglal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46200" y="309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öszönöm a figyelmet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-360" y="21384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Calibri"/>
              </a:rPr>
              <a:t>Globális trendek és kihívások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0" y="1623960"/>
            <a:ext cx="3416400" cy="212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ilágszerte (és így hazánkban is) csökkenő érdeklődés a tudományos és mérnöki szakmák irá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fordulás az absztrakciót igénylő tanulmányoktó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egatív demográfiai trend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5164200" y="1563840"/>
            <a:ext cx="3979800" cy="240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oros korreláció a tudásalapú társadalom, magas absztrakciós szintre képes szakemberei és a gazdasági növekedés közö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gazdasági versenyképesség csak, nemzetközi szinten is kiváló szakemberek tudásával növelhet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udós- és fejleszt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utánpótl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Group 9"/>
          <p:cNvGrpSpPr/>
          <p:nvPr/>
        </p:nvGrpSpPr>
        <p:grpSpPr>
          <a:xfrm>
            <a:off x="204840" y="3089160"/>
            <a:ext cx="8494560" cy="2903040"/>
            <a:chOff x="204840" y="3089160"/>
            <a:chExt cx="8494560" cy="2903040"/>
          </a:xfrm>
        </p:grpSpPr>
        <p:pic>
          <p:nvPicPr>
            <p:cNvPr id="569" name="Picture 9" descr="magyarorszag"/>
            <p:cNvPicPr/>
            <p:nvPr/>
          </p:nvPicPr>
          <p:blipFill>
            <a:blip r:embed="rId1"/>
            <a:stretch/>
          </p:blipFill>
          <p:spPr>
            <a:xfrm>
              <a:off x="3398760" y="3909960"/>
              <a:ext cx="168444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Text Box 10"/>
            <p:cNvSpPr/>
            <p:nvPr/>
          </p:nvSpPr>
          <p:spPr>
            <a:xfrm>
              <a:off x="204840" y="4932360"/>
              <a:ext cx="849456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Hatékony nemzeti tehetséggondozó programok, amelyek képesek a negatív trendek megfordítására és ezen keresztül a versenyképesség növelésére !!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0000"/>
                  </a:solidFill>
                  <a:latin typeface="Arial"/>
                </a:rPr>
                <a:t>TÁMOP Tehetséggondozó program 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1" name="Picture 12" descr="judit"/>
            <p:cNvPicPr/>
            <p:nvPr/>
          </p:nvPicPr>
          <p:blipFill>
            <a:blip r:embed="rId2"/>
            <a:stretch/>
          </p:blipFill>
          <p:spPr>
            <a:xfrm>
              <a:off x="3718080" y="3089160"/>
              <a:ext cx="868320" cy="847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-360" y="298080"/>
            <a:ext cx="604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Az egyetem szere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3" name="Object 2"/>
          <p:cNvGraphicFramePr/>
          <p:nvPr/>
        </p:nvGraphicFramePr>
        <p:xfrm>
          <a:off x="2557440" y="2851200"/>
          <a:ext cx="3933720" cy="8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7440" y="2851200"/>
                    <a:ext cx="393372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5" name="Csoportba foglalás 2"/>
          <p:cNvGrpSpPr/>
          <p:nvPr/>
        </p:nvGrpSpPr>
        <p:grpSpPr>
          <a:xfrm>
            <a:off x="0" y="3860280"/>
            <a:ext cx="8113680" cy="2117160"/>
            <a:chOff x="0" y="3860280"/>
            <a:chExt cx="8113680" cy="2117160"/>
          </a:xfrm>
        </p:grpSpPr>
        <p:sp>
          <p:nvSpPr>
            <p:cNvPr id="576" name="Line 14"/>
            <p:cNvSpPr/>
            <p:nvPr/>
          </p:nvSpPr>
          <p:spPr>
            <a:xfrm flipV="1">
              <a:off x="2249280" y="3861720"/>
              <a:ext cx="950760" cy="75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15"/>
            <p:cNvSpPr/>
            <p:nvPr/>
          </p:nvSpPr>
          <p:spPr>
            <a:xfrm>
              <a:off x="0" y="4643280"/>
              <a:ext cx="276840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Diákok bevonása spontán szerveződő szakmai műhelymunkáb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0000"/>
                  </a:solidFill>
                  <a:latin typeface="Arial"/>
                </a:rPr>
                <a:t>Szakkollégium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16"/>
            <p:cNvSpPr/>
            <p:nvPr/>
          </p:nvSpPr>
          <p:spPr>
            <a:xfrm flipH="1" flipV="1">
              <a:off x="4233960" y="3860280"/>
              <a:ext cx="10800" cy="62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17"/>
            <p:cNvSpPr/>
            <p:nvPr/>
          </p:nvSpPr>
          <p:spPr>
            <a:xfrm>
              <a:off x="2984400" y="4630680"/>
              <a:ext cx="276840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Tudományos tevékenység támogatása a BSc és MSc szinten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0000"/>
                  </a:solidFill>
                  <a:latin typeface="Arial"/>
                </a:rPr>
                <a:t>TD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8"/>
            <p:cNvSpPr/>
            <p:nvPr/>
          </p:nvSpPr>
          <p:spPr>
            <a:xfrm flipH="1" flipV="1">
              <a:off x="5844960" y="3871440"/>
              <a:ext cx="56484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19"/>
            <p:cNvSpPr/>
            <p:nvPr/>
          </p:nvSpPr>
          <p:spPr>
            <a:xfrm>
              <a:off x="5705640" y="4613040"/>
              <a:ext cx="240804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Élenjáró kutatásokban való                    részvéte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0000"/>
                  </a:solidFill>
                  <a:latin typeface="Arial"/>
                </a:rPr>
                <a:t>Doktori Iskolák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Csoportba foglalás 1"/>
          <p:cNvGrpSpPr/>
          <p:nvPr/>
        </p:nvGrpSpPr>
        <p:grpSpPr>
          <a:xfrm>
            <a:off x="471600" y="1719360"/>
            <a:ext cx="7818480" cy="1098360"/>
            <a:chOff x="471600" y="1719360"/>
            <a:chExt cx="7818480" cy="1098360"/>
          </a:xfrm>
        </p:grpSpPr>
        <p:sp>
          <p:nvSpPr>
            <p:cNvPr id="583" name="Text Box 20"/>
            <p:cNvSpPr/>
            <p:nvPr/>
          </p:nvSpPr>
          <p:spPr>
            <a:xfrm>
              <a:off x="471600" y="1719360"/>
              <a:ext cx="781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TÁMOP : a szakmai tevékenység támogatása és infrastruktúrális feltételek megteremtés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AutoShape 21"/>
            <p:cNvSpPr/>
            <p:nvPr/>
          </p:nvSpPr>
          <p:spPr>
            <a:xfrm>
              <a:off x="4283280" y="2360520"/>
              <a:ext cx="288720" cy="457200"/>
            </a:xfrm>
            <a:prstGeom prst="downArrow">
              <a:avLst>
                <a:gd name="adj1" fmla="val 50000"/>
                <a:gd name="adj2" fmla="val 39589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Csoportba foglalás 4"/>
          <p:cNvGrpSpPr/>
          <p:nvPr/>
        </p:nvGrpSpPr>
        <p:grpSpPr>
          <a:xfrm>
            <a:off x="0" y="2592360"/>
            <a:ext cx="8975880" cy="1680120"/>
            <a:chOff x="0" y="2592360"/>
            <a:chExt cx="8975880" cy="1680120"/>
          </a:xfrm>
        </p:grpSpPr>
        <p:grpSp>
          <p:nvGrpSpPr>
            <p:cNvPr id="586" name="Group 23"/>
            <p:cNvGrpSpPr/>
            <p:nvPr/>
          </p:nvGrpSpPr>
          <p:grpSpPr>
            <a:xfrm>
              <a:off x="0" y="2592360"/>
              <a:ext cx="8975880" cy="1311480"/>
              <a:chOff x="0" y="2592360"/>
              <a:chExt cx="8975880" cy="1311480"/>
            </a:xfrm>
          </p:grpSpPr>
          <p:pic>
            <p:nvPicPr>
              <p:cNvPr id="587" name="Picture 5" descr="106851-d2-d00001F835bf176264b52"/>
              <p:cNvPicPr/>
              <p:nvPr/>
            </p:nvPicPr>
            <p:blipFill>
              <a:blip r:embed="rId3"/>
              <a:stretch/>
            </p:blipFill>
            <p:spPr>
              <a:xfrm>
                <a:off x="7588080" y="2592360"/>
                <a:ext cx="1387800" cy="131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8" name="Picture 11" descr="student"/>
              <p:cNvPicPr/>
              <p:nvPr/>
            </p:nvPicPr>
            <p:blipFill>
              <a:blip r:embed="rId4"/>
              <a:stretch/>
            </p:blipFill>
            <p:spPr>
              <a:xfrm>
                <a:off x="0" y="2909880"/>
                <a:ext cx="1573200" cy="92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9" name="AutoShape 12"/>
              <p:cNvSpPr/>
              <p:nvPr/>
            </p:nvSpPr>
            <p:spPr>
              <a:xfrm>
                <a:off x="1900080" y="3152880"/>
                <a:ext cx="506520" cy="312480"/>
              </a:xfrm>
              <a:prstGeom prst="rightArrow">
                <a:avLst>
                  <a:gd name="adj1" fmla="val 50000"/>
                  <a:gd name="adj2" fmla="val 40524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AutoShape 13"/>
              <p:cNvSpPr/>
              <p:nvPr/>
            </p:nvSpPr>
            <p:spPr>
              <a:xfrm>
                <a:off x="6773760" y="3165480"/>
                <a:ext cx="673200" cy="204840"/>
              </a:xfrm>
              <a:prstGeom prst="rightArrow">
                <a:avLst>
                  <a:gd name="adj1" fmla="val 50000"/>
                  <a:gd name="adj2" fmla="val 82162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Szövegdoboz 3"/>
            <p:cNvSpPr/>
            <p:nvPr/>
          </p:nvSpPr>
          <p:spPr>
            <a:xfrm>
              <a:off x="71280" y="3904200"/>
              <a:ext cx="17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hallgató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Szövegdoboz 20"/>
            <p:cNvSpPr/>
            <p:nvPr/>
          </p:nvSpPr>
          <p:spPr>
            <a:xfrm>
              <a:off x="7210800" y="3904200"/>
              <a:ext cx="17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tehetség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15640" y="274320"/>
            <a:ext cx="604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ályázati adat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190080" y="1600200"/>
            <a:ext cx="870732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nyert összeg:  </a:t>
            </a: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683 280 0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 projekt futamideje: 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011. 09.01. – 2013. 08. 3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246240" y="3360600"/>
          <a:ext cx="8754840" cy="1011240"/>
        </p:xfrm>
        <a:graphic>
          <a:graphicData uri="http://schemas.openxmlformats.org/drawingml/2006/table">
            <a:tbl>
              <a:tblPr/>
              <a:tblGrid>
                <a:gridCol w="2035080"/>
                <a:gridCol w="2076480"/>
                <a:gridCol w="1995480"/>
                <a:gridCol w="2647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támogatott hallgatók szám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támogatott oktatók szám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támogatott K+F projektek szá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észtvevő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DI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zakkoll., TD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68200" y="204480"/>
            <a:ext cx="602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Várt eredmé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-360" y="2057040"/>
            <a:ext cx="8915400" cy="26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A  projekt során megvalósuló hatékony tehetséggondozással, motivált és tehetséges hallgatók terelhetők a kutatói- és fejlesztői pálya felé. Ez segíti a gazdaság húzóágazataiban a növekedési potenciált, valamint hosszútávon növeli a versenyképesség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39760" y="177480"/>
            <a:ext cx="572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A megvalósulás mene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2189160" y="1755720"/>
            <a:ext cx="192420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valósítási terv (szakmai tevékenység leképzése indikátorokra és finanszírozásr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192240" y="2262240"/>
            <a:ext cx="1525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akmai kutatási terv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6"/>
          <p:cNvSpPr/>
          <p:nvPr/>
        </p:nvSpPr>
        <p:spPr>
          <a:xfrm>
            <a:off x="4500720" y="2297160"/>
            <a:ext cx="3522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evékenysé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7"/>
          <p:cNvSpPr/>
          <p:nvPr/>
        </p:nvSpPr>
        <p:spPr>
          <a:xfrm>
            <a:off x="4449600" y="3019320"/>
            <a:ext cx="635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5398920" y="3019320"/>
            <a:ext cx="635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9"/>
          <p:cNvSpPr/>
          <p:nvPr/>
        </p:nvSpPr>
        <p:spPr>
          <a:xfrm>
            <a:off x="7388280" y="2998800"/>
            <a:ext cx="635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0"/>
          <p:cNvSpPr/>
          <p:nvPr/>
        </p:nvSpPr>
        <p:spPr>
          <a:xfrm>
            <a:off x="6232680" y="3187800"/>
            <a:ext cx="985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1"/>
          <p:cNvSpPr/>
          <p:nvPr/>
        </p:nvSpPr>
        <p:spPr>
          <a:xfrm>
            <a:off x="4497480" y="3789360"/>
            <a:ext cx="3462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dikátorok teljesül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Jobbra nyíl 3"/>
          <p:cNvSpPr/>
          <p:nvPr/>
        </p:nvSpPr>
        <p:spPr>
          <a:xfrm>
            <a:off x="1717560" y="2443320"/>
            <a:ext cx="471600" cy="144360"/>
          </a:xfrm>
          <a:prstGeom prst="rightArrow">
            <a:avLst>
              <a:gd name="adj1" fmla="val 50000"/>
              <a:gd name="adj2" fmla="val 5004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Jobbra nyíl 4"/>
          <p:cNvSpPr/>
          <p:nvPr/>
        </p:nvSpPr>
        <p:spPr>
          <a:xfrm>
            <a:off x="4113360" y="2443320"/>
            <a:ext cx="384120" cy="14436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efelé nyíl 5"/>
          <p:cNvSpPr/>
          <p:nvPr/>
        </p:nvSpPr>
        <p:spPr>
          <a:xfrm>
            <a:off x="4691160" y="2673360"/>
            <a:ext cx="75960" cy="345960"/>
          </a:xfrm>
          <a:prstGeom prst="downArrow">
            <a:avLst>
              <a:gd name="adj1" fmla="val 50000"/>
              <a:gd name="adj2" fmla="val 501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efelé nyíl 17"/>
          <p:cNvSpPr/>
          <p:nvPr/>
        </p:nvSpPr>
        <p:spPr>
          <a:xfrm>
            <a:off x="5678640" y="2673360"/>
            <a:ext cx="75960" cy="345960"/>
          </a:xfrm>
          <a:prstGeom prst="downArrow">
            <a:avLst>
              <a:gd name="adj1" fmla="val 50000"/>
              <a:gd name="adj2" fmla="val 501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efelé nyíl 18"/>
          <p:cNvSpPr/>
          <p:nvPr/>
        </p:nvSpPr>
        <p:spPr>
          <a:xfrm>
            <a:off x="7651800" y="2673360"/>
            <a:ext cx="76320" cy="345960"/>
          </a:xfrm>
          <a:prstGeom prst="downArrow">
            <a:avLst>
              <a:gd name="adj1" fmla="val 50000"/>
              <a:gd name="adj2" fmla="val 499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efelé nyíl 19"/>
          <p:cNvSpPr/>
          <p:nvPr/>
        </p:nvSpPr>
        <p:spPr>
          <a:xfrm>
            <a:off x="4729320" y="3395520"/>
            <a:ext cx="75960" cy="393840"/>
          </a:xfrm>
          <a:prstGeom prst="downArrow">
            <a:avLst>
              <a:gd name="adj1" fmla="val 50000"/>
              <a:gd name="adj2" fmla="val 5016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efelé nyíl 20"/>
          <p:cNvSpPr/>
          <p:nvPr/>
        </p:nvSpPr>
        <p:spPr>
          <a:xfrm>
            <a:off x="5673600" y="3395520"/>
            <a:ext cx="76320" cy="393840"/>
          </a:xfrm>
          <a:prstGeom prst="downArrow">
            <a:avLst>
              <a:gd name="adj1" fmla="val 50000"/>
              <a:gd name="adj2" fmla="val 4993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efelé nyíl 21"/>
          <p:cNvSpPr/>
          <p:nvPr/>
        </p:nvSpPr>
        <p:spPr>
          <a:xfrm>
            <a:off x="7667640" y="3395520"/>
            <a:ext cx="76320" cy="393840"/>
          </a:xfrm>
          <a:prstGeom prst="downArrow">
            <a:avLst>
              <a:gd name="adj1" fmla="val 50000"/>
              <a:gd name="adj2" fmla="val 4993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2352600" y="4165560"/>
            <a:ext cx="3909960" cy="2035440"/>
            <a:chOff x="2352600" y="4165560"/>
            <a:chExt cx="3909960" cy="2035440"/>
          </a:xfrm>
        </p:grpSpPr>
        <p:sp>
          <p:nvSpPr>
            <p:cNvPr id="616" name="Text Box 12"/>
            <p:cNvSpPr/>
            <p:nvPr/>
          </p:nvSpPr>
          <p:spPr>
            <a:xfrm>
              <a:off x="2352600" y="4735440"/>
              <a:ext cx="3909960" cy="146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A projekt általános céljainak megvalósulása, magasan képzett, tudományosan is minősített versenyképes szakemberek a tudásalapú társadalomho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efelé nyíl 7"/>
            <p:cNvSpPr/>
            <p:nvPr/>
          </p:nvSpPr>
          <p:spPr>
            <a:xfrm>
              <a:off x="4535640" y="4165560"/>
              <a:ext cx="320400" cy="569880"/>
            </a:xfrm>
            <a:prstGeom prst="downArrow">
              <a:avLst>
                <a:gd name="adj1" fmla="val 50000"/>
                <a:gd name="adj2" fmla="val 60441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6599160" y="4165560"/>
            <a:ext cx="2544840" cy="1961280"/>
            <a:chOff x="6599160" y="4165560"/>
            <a:chExt cx="2544840" cy="1961280"/>
          </a:xfrm>
        </p:grpSpPr>
        <p:sp>
          <p:nvSpPr>
            <p:cNvPr id="619" name="Text Box 12"/>
            <p:cNvSpPr/>
            <p:nvPr/>
          </p:nvSpPr>
          <p:spPr>
            <a:xfrm>
              <a:off x="6599160" y="4792680"/>
              <a:ext cx="2544840" cy="133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Fenntartható folyamat, amely „szervül” az egyetemi működés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efelé nyíl 23"/>
            <p:cNvSpPr/>
            <p:nvPr/>
          </p:nvSpPr>
          <p:spPr>
            <a:xfrm>
              <a:off x="7534440" y="4165560"/>
              <a:ext cx="271440" cy="627120"/>
            </a:xfrm>
            <a:prstGeom prst="downArrow">
              <a:avLst>
                <a:gd name="adj1" fmla="val 50000"/>
                <a:gd name="adj2" fmla="val 50004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0" y="193320"/>
            <a:ext cx="6135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Calibri"/>
              </a:rPr>
              <a:t>Támogatott tevékenysége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 Box 7"/>
          <p:cNvSpPr/>
          <p:nvPr/>
        </p:nvSpPr>
        <p:spPr>
          <a:xfrm>
            <a:off x="0" y="1698480"/>
            <a:ext cx="2550960" cy="400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70c0"/>
                </a:solidFill>
                <a:latin typeface="Arial"/>
              </a:rPr>
              <a:t>TÁMOP támogatá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rastruktúrális beszerzés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laszteralapú szuperszámítógé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oktoranduszi „ösztöndíja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oktorjelölti „ösztöndíja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témavezető oktatók támoga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ferenc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k és képzések támoga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Csoportba foglalás 4"/>
          <p:cNvGrpSpPr/>
          <p:nvPr/>
        </p:nvGrpSpPr>
        <p:grpSpPr>
          <a:xfrm>
            <a:off x="2550600" y="1698480"/>
            <a:ext cx="2880360" cy="4131720"/>
            <a:chOff x="2550600" y="1698480"/>
            <a:chExt cx="2880360" cy="4131720"/>
          </a:xfrm>
        </p:grpSpPr>
        <p:sp>
          <p:nvSpPr>
            <p:cNvPr id="624" name="Text Box 4"/>
            <p:cNvSpPr/>
            <p:nvPr/>
          </p:nvSpPr>
          <p:spPr>
            <a:xfrm>
              <a:off x="3003480" y="1698480"/>
              <a:ext cx="2427480" cy="12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u-HU" sz="1800" spc="-1" strike="noStrike">
                  <a:solidFill>
                    <a:srgbClr val="0070c0"/>
                  </a:solidFill>
                  <a:latin typeface="Arial"/>
                </a:rPr>
                <a:t>Szakkollégiumok:</a:t>
              </a:r>
              <a:r>
                <a:rPr b="1" lang="hu-HU" sz="1800" spc="-1" strike="noStrike">
                  <a:solidFill>
                    <a:srgbClr val="0070c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Versenyek, tanulmányutak, képzés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5"/>
            <p:cNvSpPr/>
            <p:nvPr/>
          </p:nvSpPr>
          <p:spPr>
            <a:xfrm>
              <a:off x="3003480" y="3046680"/>
              <a:ext cx="2427480" cy="97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u-HU" sz="1800" spc="-1" strike="noStrike">
                  <a:solidFill>
                    <a:srgbClr val="0070c0"/>
                  </a:solidFill>
                  <a:latin typeface="Arial"/>
                </a:rPr>
                <a:t>TDK:</a:t>
              </a:r>
              <a:r>
                <a:rPr b="1" lang="hu-H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Új webportá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Megújhodó műhelymun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6"/>
            <p:cNvSpPr/>
            <p:nvPr/>
          </p:nvSpPr>
          <p:spPr>
            <a:xfrm>
              <a:off x="3003480" y="4250160"/>
              <a:ext cx="2427480" cy="158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u-HU" sz="1800" spc="-1" strike="noStrike">
                  <a:solidFill>
                    <a:srgbClr val="0070c0"/>
                  </a:solidFill>
                  <a:latin typeface="Arial"/>
                </a:rPr>
                <a:t>Doktori Iskolák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Nemzetközi színvonalú kutatások, konf. részvétel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Publikáció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7" name="Egyenes összekötő nyíllal 2"/>
            <p:cNvCxnSpPr/>
            <p:nvPr/>
          </p:nvCxnSpPr>
          <p:spPr>
            <a:xfrm>
              <a:off x="2550600" y="2185200"/>
              <a:ext cx="453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8" name="Egyenes összekötő nyíllal 9"/>
            <p:cNvCxnSpPr/>
            <p:nvPr/>
          </p:nvCxnSpPr>
          <p:spPr>
            <a:xfrm>
              <a:off x="2550600" y="3396960"/>
              <a:ext cx="453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9" name="Egyenes összekötő nyíllal 10"/>
            <p:cNvCxnSpPr/>
            <p:nvPr/>
          </p:nvCxnSpPr>
          <p:spPr>
            <a:xfrm>
              <a:off x="2550600" y="4954680"/>
              <a:ext cx="453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30" name="Csoportba foglalás 5"/>
          <p:cNvGrpSpPr/>
          <p:nvPr/>
        </p:nvGrpSpPr>
        <p:grpSpPr>
          <a:xfrm>
            <a:off x="5573880" y="1698480"/>
            <a:ext cx="3292200" cy="4249800"/>
            <a:chOff x="5573880" y="1698480"/>
            <a:chExt cx="3292200" cy="4249800"/>
          </a:xfrm>
        </p:grpSpPr>
        <p:sp>
          <p:nvSpPr>
            <p:cNvPr id="631" name="Text Box 8"/>
            <p:cNvSpPr/>
            <p:nvPr/>
          </p:nvSpPr>
          <p:spPr>
            <a:xfrm>
              <a:off x="6081480" y="2503080"/>
              <a:ext cx="2784600" cy="235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u-HU" sz="1800" spc="-1" strike="noStrike">
                  <a:solidFill>
                    <a:srgbClr val="0070c0"/>
                  </a:solidFill>
                  <a:latin typeface="Arial"/>
                </a:rPr>
                <a:t>Indikátor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Publikáció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Konf. előadás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Képzés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K+F projekt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Bevont hallgatók szá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000000"/>
                  </a:solidFill>
                  <a:latin typeface="Arial"/>
                </a:rPr>
                <a:t>Bevont oktatók szá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Jobb oldali kapcsos zárójel 3"/>
            <p:cNvSpPr/>
            <p:nvPr/>
          </p:nvSpPr>
          <p:spPr>
            <a:xfrm>
              <a:off x="5573880" y="1698480"/>
              <a:ext cx="357480" cy="4249800"/>
            </a:xfrm>
            <a:custGeom>
              <a:avLst/>
              <a:gdLst>
                <a:gd name="textAreaLeft" fmla="*/ 0 w 357480"/>
                <a:gd name="textAreaRight" fmla="*/ 128880 w 357480"/>
                <a:gd name="textAreaTop" fmla="*/ 9360 h 4249800"/>
                <a:gd name="textAreaBottom" fmla="*/ 4240440 h 424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76"/>
                    <a:pt x="10800" y="152"/>
                  </a:cubicBezTo>
                  <a:lnTo>
                    <a:pt x="10800" y="10648"/>
                  </a:lnTo>
                  <a:cubicBezTo>
                    <a:pt x="10800" y="10724"/>
                    <a:pt x="16200" y="10800"/>
                    <a:pt x="21600" y="10800"/>
                  </a:cubicBezTo>
                  <a:cubicBezTo>
                    <a:pt x="16200" y="10800"/>
                    <a:pt x="10800" y="10876"/>
                    <a:pt x="10800" y="10952"/>
                  </a:cubicBezTo>
                  <a:lnTo>
                    <a:pt x="10800" y="21448"/>
                  </a:lnTo>
                  <a:cubicBezTo>
                    <a:pt x="10800" y="21524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Object 2" descr=""/>
          <p:cNvPicPr/>
          <p:nvPr/>
        </p:nvPicPr>
        <p:blipFill>
          <a:blip r:embed="rId1"/>
          <a:stretch/>
        </p:blipFill>
        <p:spPr>
          <a:xfrm>
            <a:off x="468360" y="946080"/>
            <a:ext cx="5950080" cy="591192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5977080" y="958680"/>
            <a:ext cx="434880" cy="5766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605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gyetemi hatások – horizontális projekt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Élőláb helye 3"/>
          <p:cNvSpPr/>
          <p:nvPr/>
        </p:nvSpPr>
        <p:spPr>
          <a:xfrm>
            <a:off x="299736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98989"/>
                </a:solidFill>
                <a:latin typeface="Arial"/>
              </a:rPr>
              <a:t>TÁMOP-4.2.2/B10-1/2010-0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Csoportba foglalás 29"/>
          <p:cNvGrpSpPr/>
          <p:nvPr/>
        </p:nvGrpSpPr>
        <p:grpSpPr>
          <a:xfrm>
            <a:off x="1362240" y="3782520"/>
            <a:ext cx="5962320" cy="2263320"/>
            <a:chOff x="1362240" y="3782520"/>
            <a:chExt cx="5962320" cy="2263320"/>
          </a:xfrm>
        </p:grpSpPr>
        <p:sp>
          <p:nvSpPr>
            <p:cNvPr id="638" name="Szövegdoboz 10"/>
            <p:cNvSpPr/>
            <p:nvPr/>
          </p:nvSpPr>
          <p:spPr>
            <a:xfrm rot="16200000">
              <a:off x="1498680" y="4544280"/>
              <a:ext cx="1827360" cy="307080"/>
            </a:xfrm>
            <a:prstGeom prst="rect">
              <a:avLst/>
            </a:prstGeom>
            <a:solidFill>
              <a:srgbClr val="8eb4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Építészmérnöki k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Szövegdoboz 11"/>
            <p:cNvSpPr/>
            <p:nvPr/>
          </p:nvSpPr>
          <p:spPr>
            <a:xfrm rot="16200000">
              <a:off x="2049480" y="4544280"/>
              <a:ext cx="1827360" cy="307080"/>
            </a:xfrm>
            <a:prstGeom prst="rect">
              <a:avLst/>
            </a:prstGeom>
            <a:solidFill>
              <a:srgbClr val="8eb4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Építőmérnöki k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Szövegdoboz 12"/>
            <p:cNvSpPr/>
            <p:nvPr/>
          </p:nvSpPr>
          <p:spPr>
            <a:xfrm rot="16200000">
              <a:off x="2611440" y="4541040"/>
              <a:ext cx="1821240" cy="307080"/>
            </a:xfrm>
            <a:prstGeom prst="rect">
              <a:avLst/>
            </a:prstGeom>
            <a:solidFill>
              <a:srgbClr val="8eb4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épészmérnöki k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Szövegdoboz 13"/>
            <p:cNvSpPr/>
            <p:nvPr/>
          </p:nvSpPr>
          <p:spPr>
            <a:xfrm rot="16200000">
              <a:off x="3117960" y="4545720"/>
              <a:ext cx="1830600" cy="307080"/>
            </a:xfrm>
            <a:prstGeom prst="rect">
              <a:avLst/>
            </a:prstGeom>
            <a:solidFill>
              <a:srgbClr val="8eb4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gyészmérnöki k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Szövegdoboz 14"/>
            <p:cNvSpPr/>
            <p:nvPr/>
          </p:nvSpPr>
          <p:spPr>
            <a:xfrm rot="16200000">
              <a:off x="3648240" y="4545720"/>
              <a:ext cx="1830600" cy="307080"/>
            </a:xfrm>
            <a:prstGeom prst="rect">
              <a:avLst/>
            </a:prstGeom>
            <a:solidFill>
              <a:srgbClr val="8eb4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Vill. és info  k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Szövegdoboz 15"/>
            <p:cNvSpPr/>
            <p:nvPr/>
          </p:nvSpPr>
          <p:spPr>
            <a:xfrm rot="16200000">
              <a:off x="4185000" y="4544280"/>
              <a:ext cx="1830600" cy="307080"/>
            </a:xfrm>
            <a:prstGeom prst="rect">
              <a:avLst/>
            </a:prstGeom>
            <a:solidFill>
              <a:srgbClr val="8eb4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Gazd. és tár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  k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Szövegdoboz 16"/>
            <p:cNvSpPr/>
            <p:nvPr/>
          </p:nvSpPr>
          <p:spPr>
            <a:xfrm rot="16200000">
              <a:off x="4853160" y="4545720"/>
              <a:ext cx="1830600" cy="307080"/>
            </a:xfrm>
            <a:prstGeom prst="rect">
              <a:avLst/>
            </a:prstGeom>
            <a:solidFill>
              <a:srgbClr val="8eb4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rm. Tud. ka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Szövegdoboz 17"/>
            <p:cNvSpPr/>
            <p:nvPr/>
          </p:nvSpPr>
          <p:spPr>
            <a:xfrm rot="16200000">
              <a:off x="5461200" y="4545720"/>
              <a:ext cx="1830600" cy="307080"/>
            </a:xfrm>
            <a:prstGeom prst="rect">
              <a:avLst/>
            </a:prstGeom>
            <a:solidFill>
              <a:srgbClr val="8eb4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Arial"/>
                </a:rPr>
                <a:t>Közlek. mérnöki k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Szövegdoboz 19"/>
            <p:cNvSpPr/>
            <p:nvPr/>
          </p:nvSpPr>
          <p:spPr>
            <a:xfrm>
              <a:off x="1746720" y="5677560"/>
              <a:ext cx="519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ktori Iskolák, Szakkollégiumok, TDK műhely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Jobbra nyíl 20"/>
            <p:cNvSpPr/>
            <p:nvPr/>
          </p:nvSpPr>
          <p:spPr>
            <a:xfrm>
              <a:off x="1362240" y="4022640"/>
              <a:ext cx="5962320" cy="390600"/>
            </a:xfrm>
            <a:prstGeom prst="rightArrow">
              <a:avLst>
                <a:gd name="adj1" fmla="val 50000"/>
                <a:gd name="adj2" fmla="val 49963"/>
              </a:avLst>
            </a:prstGeom>
            <a:solidFill>
              <a:srgbClr val="33996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Jobbra nyíl 21"/>
            <p:cNvSpPr/>
            <p:nvPr/>
          </p:nvSpPr>
          <p:spPr>
            <a:xfrm>
              <a:off x="1362240" y="4923000"/>
              <a:ext cx="5962320" cy="390600"/>
            </a:xfrm>
            <a:prstGeom prst="rightArrow">
              <a:avLst>
                <a:gd name="adj1" fmla="val 50000"/>
                <a:gd name="adj2" fmla="val 49963"/>
              </a:avLst>
            </a:prstGeom>
            <a:solidFill>
              <a:srgbClr val="339966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Csoportba foglalás 30"/>
          <p:cNvGrpSpPr/>
          <p:nvPr/>
        </p:nvGrpSpPr>
        <p:grpSpPr>
          <a:xfrm>
            <a:off x="777960" y="2909880"/>
            <a:ext cx="7303680" cy="2960640"/>
            <a:chOff x="777960" y="2909880"/>
            <a:chExt cx="7303680" cy="2960640"/>
          </a:xfrm>
        </p:grpSpPr>
        <p:sp>
          <p:nvSpPr>
            <p:cNvPr id="650" name="Szövegdoboz 22"/>
            <p:cNvSpPr/>
            <p:nvPr/>
          </p:nvSpPr>
          <p:spPr>
            <a:xfrm rot="16200000">
              <a:off x="-273960" y="4438080"/>
              <a:ext cx="247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Horizontális projekt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Szövegdoboz 23"/>
            <p:cNvSpPr/>
            <p:nvPr/>
          </p:nvSpPr>
          <p:spPr>
            <a:xfrm rot="16200000">
              <a:off x="6279840" y="4068720"/>
              <a:ext cx="296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ff0000"/>
                  </a:solidFill>
                  <a:latin typeface="Arial"/>
                </a:rPr>
                <a:t>Új egyesült komptenciák , integrált tehetséggondozá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52" name="Objektum 4"/>
          <p:cNvGraphicFramePr/>
          <p:nvPr/>
        </p:nvGraphicFramePr>
        <p:xfrm>
          <a:off x="2309760" y="2739960"/>
          <a:ext cx="3933720" cy="8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3" name="Objektum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9760" y="2739960"/>
                    <a:ext cx="393372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4" name="Csoportba foglalás 1"/>
          <p:cNvGrpSpPr/>
          <p:nvPr/>
        </p:nvGrpSpPr>
        <p:grpSpPr>
          <a:xfrm>
            <a:off x="17640" y="1574640"/>
            <a:ext cx="8947080" cy="1168920"/>
            <a:chOff x="17640" y="1574640"/>
            <a:chExt cx="8947080" cy="1168920"/>
          </a:xfrm>
        </p:grpSpPr>
        <p:sp>
          <p:nvSpPr>
            <p:cNvPr id="655" name="Téglalap 5"/>
            <p:cNvSpPr/>
            <p:nvPr/>
          </p:nvSpPr>
          <p:spPr>
            <a:xfrm>
              <a:off x="17640" y="1613520"/>
              <a:ext cx="291888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„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Minőségorientált, összehangolt oktatási és K+F+I stratégia, valamint működési modell kidolgozása a Műegyetemen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(TÁMOP-4.2.1/B-09/1/KMR-2010-0002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Cím 1"/>
            <p:cNvSpPr/>
            <p:nvPr/>
          </p:nvSpPr>
          <p:spPr>
            <a:xfrm>
              <a:off x="6228720" y="1574640"/>
              <a:ext cx="2736000" cy="83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Új tehetséggondozó programok és kutatások a Műegyetem tudományos műhelyeib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TÁMOP-4.2.2/B-10/1-2010-0009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7" name="Egyenes összekötő nyíllal 33"/>
            <p:cNvCxnSpPr/>
            <p:nvPr/>
          </p:nvCxnSpPr>
          <p:spPr>
            <a:xfrm>
              <a:off x="2563920" y="2473200"/>
              <a:ext cx="400680" cy="270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8" name="Egyenes összekötő nyíllal 34"/>
            <p:cNvCxnSpPr/>
            <p:nvPr/>
          </p:nvCxnSpPr>
          <p:spPr>
            <a:xfrm flipH="1">
              <a:off x="6042240" y="2444760"/>
              <a:ext cx="489600" cy="295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9" name="Téglalap 5"/>
            <p:cNvSpPr/>
            <p:nvPr/>
          </p:nvSpPr>
          <p:spPr>
            <a:xfrm>
              <a:off x="3037320" y="1574640"/>
              <a:ext cx="310392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Calibri"/>
                </a:rPr>
                <a:t>„</a:t>
              </a:r>
              <a:r>
                <a:rPr b="0" lang="hu-HU" sz="1200" spc="-1" strike="noStrike">
                  <a:solidFill>
                    <a:srgbClr val="000000"/>
                  </a:solidFill>
                  <a:latin typeface="Calibri"/>
                </a:rPr>
                <a:t>Tud, hasznosulást, tud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. </a:t>
              </a:r>
              <a:r>
                <a:rPr b="0" lang="hu-HU" sz="1200" spc="-1" strike="noStrike">
                  <a:solidFill>
                    <a:srgbClr val="000000"/>
                  </a:solidFill>
                  <a:latin typeface="Calibri"/>
                </a:rPr>
                <a:t>transzfert  segítő  eszköz-és feltételrendszer kiaalkítása, fejlesztése a Műeg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r>
                <a:rPr b="0" lang="hu-HU" sz="1200" spc="-1" strike="noStrike">
                  <a:solidFill>
                    <a:srgbClr val="000000"/>
                  </a:solidFill>
                  <a:latin typeface="Calibri"/>
                </a:rPr>
                <a:t>etemen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000000"/>
                  </a:solidFill>
                  <a:latin typeface="Calibri"/>
                </a:rPr>
                <a:t>(TÁMOP -4.2-1-08/KMR-2008-000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0" name="Egyenes összekötő nyíllal 36"/>
            <p:cNvCxnSpPr/>
            <p:nvPr/>
          </p:nvCxnSpPr>
          <p:spPr>
            <a:xfrm>
              <a:off x="4344120" y="2396160"/>
              <a:ext cx="1080" cy="347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3:35:31Z</dcterms:created>
  <dc:creator>Nagy Bence</dc:creator>
  <dc:description/>
  <dc:language>en-US</dc:language>
  <cp:lastModifiedBy>Levendovszky János</cp:lastModifiedBy>
  <cp:lastPrinted>2011-10-06T13:51:46Z</cp:lastPrinted>
  <dcterms:modified xsi:type="dcterms:W3CDTF">2011-10-07T04:07:29Z</dcterms:modified>
  <cp:revision>291</cp:revision>
  <dc:subject/>
  <dc:title>1. dia</dc:title>
</cp:coreProperties>
</file>