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C69-3470-413F-AFDD-A9D45D27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6DB-2871-4294-AFDB-59D48591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E60819-52C8-4CCD-804E-A18C3BFD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531B4C-2109-4492-9B55-93C06979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601DDB-CE72-4DC2-9309-38185443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A5BA2E-4D32-4C22-BCE0-343428E2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0BFE0F-34E9-43E1-8BF7-C7A86419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8CE809-831A-4BD8-B6F0-334F78C3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709A3C-5EA8-49DE-99E9-4D31FB76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D48DD8-50E9-4887-8745-8A8606E1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68A57A-CFFC-48C6-8045-F1745296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BC904D-3D37-4024-8566-8B88F0FD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B75F-8106-467B-A971-CD72875E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86A926-3055-4FEF-8B9E-3C741894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B49831-576B-4721-A9D2-DDC634EF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FDA904-F3DA-4D80-8E1D-D7713D66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07E450-F7B7-43E8-9818-C492E1A9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1E486C-1937-4497-9A89-070F2FC3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2E1614-14F5-4C97-9444-CD10134D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6E8E7F-1826-486C-8F0B-8F8E578F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7577C8-C4AF-4298-ACC7-D676151A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5603AB-1FFA-4887-BB44-0BAE71FE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BBFA97-1B99-4D7A-909A-B54AC955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3C1-D40A-408D-B211-93C6B82D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EFC1E6-FF12-43BD-8426-3CA3276C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BDDB9-C025-4D36-87B8-89A439A7F3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68304-5DE7-4954-A9D5-695437B2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0AE71-4FD3-453D-91AE-BD28CE07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0A367-2F36-4473-A158-89F66FB9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9C7EE-A260-4DAF-BC46-2C798ABB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9FEAB-5FC2-4E35-9502-B1102387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CE45E-E8C9-4A77-8596-04CB1A35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38D-9FF7-498C-9522-FD0E0B5F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FDB95-2190-40DE-BF79-6366A4B8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66E15-8AE9-454D-AECF-2421F466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3847D-B3E6-4F79-BB6A-25A5E0CD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A4D10-7A3D-4D3A-85A0-B9493248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913A6-1816-461B-BBCD-1720BC152F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0CC6C-1436-49EB-AAC1-7D30AFEF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0CE24-1EF8-45E8-9433-AE7E7049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E85A4-B41E-4249-83DF-227B102C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A9EC3-BAB7-49B1-A271-EBED9EAB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B3216-823E-4E48-988B-060B7A55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A1D-2B63-43AB-8D33-5459EDA4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B739D-FC31-419B-B0DD-C8D0F0E6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941B7-1EE0-4BFF-9AC0-05AA9892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8CCBF-0805-4B00-A96D-3C665E53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F8AED-F92D-4BAE-B7C4-8C71045B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80A56-062E-4C71-B5FE-295BB593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E3BFB-E213-45AE-B825-80B6850E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466504-FE03-4310-A586-51437AF5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A758BE-3B42-4C9E-B989-3E537409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B2F0DF-BBBD-4DC9-A4FF-BEE6C815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A8920-A641-4A0C-9FBE-A7E19C62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0B5C-D6EA-4AAB-A408-23088487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C30A5A-54FB-4C9F-B4B0-D87CA053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530DD5-6853-4AE8-B30F-DF72554D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433691-BEEA-4F25-B3F0-B515B831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1C17F9-C830-439F-8773-3D183496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2A5097-174A-4B4C-8449-A88F7D2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8B5FC0-321C-4224-A17C-AD556AD4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C8103-146C-4138-AD3A-8A0EF42D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AA67F0-2CC0-4EFF-831F-1D70FA1A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5A983-3BF2-4C7C-BA0C-FD76FF29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FEF94-D12F-41AA-A7D7-B8FC72BD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0FB-22D7-41D8-9507-71DD4CCD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59F8EC-998D-4DA7-91D5-31D4BCC3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A4013-1C4D-4746-AD8D-D78765F9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823A86-FC88-4DFF-82EE-02B82F71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DEA343-C130-435D-9EB9-4D7B5335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B828B-BFF8-4214-9296-9FA7B8BE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8BCD8-B35A-4716-A488-7C2F5E83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206F0D-43C9-405D-A623-2378D9C1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10A72-A98C-4601-9716-2C5BD051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818F28-90D5-4A50-995F-8A863EE4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39F229-BC0C-4E86-9C40-50ACD75B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A534-9322-4A03-B8D9-E81A2DE2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CAE23-5EFA-4417-B24A-ED3A7336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41D12C-76A0-48E9-BD74-F099F60A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31EDA-8962-43FB-B692-522617B6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B2DD90-E62B-468F-BA5A-8939A9E9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659A51-55A8-473D-8BC5-441FA22F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2EE366-43D0-46B8-8D1C-BEAADF33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00E003-2EDE-4EFC-A8A9-A8CB2B8B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2FA2BE-AA0C-4679-9F3D-FEB4DD8E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99E29E-9864-4D1F-B623-B1497C8F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E2B35F-6AEC-4C36-A335-4BC5B1E3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0764-181B-4C83-AC44-E2D949A4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4A50F-4216-4431-BE0A-43553B02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0664B7-F0B9-43C3-BBE9-0242723D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3FDAB-7CF7-45A0-B6A8-F8F3B39F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76ADFD-B90C-422C-91AC-F94B36D5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AA067B-95FE-4104-A257-C0989421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BA3A6A-B5E7-43B6-BC46-AF1B9FC4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D2786-5D33-4310-817E-DED5E496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F770D2-3093-4E0C-AA58-03F14255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48DEF4-87D1-4FAD-B5EB-4E55760D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796646-100C-4970-A497-39B0F805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32E-2C48-4AE9-89F6-601BE9CD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FB803-CBC5-4C31-B27A-12594534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386998-F323-47AF-95CE-5FDF8CAD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3F819-172C-465E-9527-AC680F0A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1132B8-B36B-47A7-9F50-D66C4B72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A40601-BFFC-4CC4-959D-58DA1165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A154EF-CE7D-4CDD-878A-0F0C6B81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2CC447-C293-4180-BDCE-1B4EA7B3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EF13B8-5EF4-4B5E-8B6F-42C9668B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4FCB00-39A0-4754-8629-F8A9D306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B1EDC7-F02A-4CC2-A182-CFAF2C63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86E-04CE-497C-943B-4501B71F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8CD091-D52D-4312-83B5-F258C6EF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BBED2E-89E1-4F72-B0B0-09A7502D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D8BA11-67C0-434E-99ED-732E9BD9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483E94-84E0-47C4-A778-C8122BFD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1AF0D9-01BE-4AE9-8EF7-6CCA48DF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A2E2C5-BE9C-4AC2-AC35-18C5329F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C57EA5-B151-4041-B4E6-7E6861FD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222340-89B3-44B4-8CB9-E00077B7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47BA0C-1643-4D66-97FC-E90C8DC2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F777A7-CC72-4211-8EF2-EB4DD24E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2.2/B-10/1-2010-0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44F4-7605-4603-8C33-E9CBB11F99FD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418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8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2.2/B-10/1-2010-0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D9A0-C24C-437B-A5C4-88BEF39A230E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3F9E-4664-46BC-A2BB-A771C159C417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94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0" y="1566720"/>
            <a:ext cx="9144000" cy="4597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10"/>
          <p:cNvSpPr/>
          <p:nvPr/>
        </p:nvSpPr>
        <p:spPr>
          <a:xfrm>
            <a:off x="0" y="156672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2.2/B10-1/2010-0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527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9AA2-8719-48ED-BAC9-2613EF8B4722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142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B20F-2E75-451C-BB7F-073CAD639755}" type="datetime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26.07.29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0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2.2/B-10/1-2010-0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45DF-2FDB-4028-8038-C022EB31FB3C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188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2545-FEA7-45E3-AC12-1A7425B1BBE2}" type="datetime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26.07.29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3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2.2/B-10/1-2010-0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9DB1-660E-417E-A780-0E5EAC38917D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234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4E30-F9FF-4360-83C3-82132B70D041}" type="datetime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26.07.29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6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2.2/B-10/1-2010-0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85BC-DCF3-4149-BD04-B8897A8A740F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280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9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2.2/B-10/1-2010-0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18B0-1E4A-4E86-A5AC-06CE6975BB33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326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2.2/B-10/1-2010-0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8251-658A-4DB1-9588-A623283D3349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0" y="1592280"/>
            <a:ext cx="9144000" cy="4595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7" descr="USZT_logo_cmyk.eps"/>
          <p:cNvPicPr/>
          <p:nvPr/>
        </p:nvPicPr>
        <p:blipFill>
          <a:blip r:embed="rId2"/>
          <a:stretch/>
        </p:blipFill>
        <p:spPr>
          <a:xfrm>
            <a:off x="6037200" y="163440"/>
            <a:ext cx="3046320" cy="1270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BME1782nagyQbordo.jpg"/>
          <p:cNvPicPr/>
          <p:nvPr/>
        </p:nvPicPr>
        <p:blipFill>
          <a:blip r:embed="rId3"/>
          <a:stretch/>
        </p:blipFill>
        <p:spPr>
          <a:xfrm>
            <a:off x="351000" y="6229440"/>
            <a:ext cx="1981080" cy="560160"/>
          </a:xfrm>
          <a:prstGeom prst="rect">
            <a:avLst/>
          </a:prstGeom>
          <a:ln w="0">
            <a:noFill/>
          </a:ln>
        </p:spPr>
      </p:pic>
      <p:sp>
        <p:nvSpPr>
          <p:cNvPr id="372" name="Straight Connector 11"/>
          <p:cNvSpPr/>
          <p:nvPr/>
        </p:nvSpPr>
        <p:spPr>
          <a:xfrm>
            <a:off x="0" y="1584360"/>
            <a:ext cx="914400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Kép 12" descr="NFU_levelpapir_lablec_CMYK"/>
          <p:cNvPicPr/>
          <p:nvPr/>
        </p:nvPicPr>
        <p:blipFill>
          <a:blip r:embed="rId4"/>
          <a:srcRect l="62180" t="6924" r="5920" b="25387"/>
          <a:stretch/>
        </p:blipFill>
        <p:spPr>
          <a:xfrm>
            <a:off x="7024680" y="6229440"/>
            <a:ext cx="1776600" cy="5713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5"/>
          </p:nvPr>
        </p:nvSpPr>
        <p:spPr>
          <a:xfrm>
            <a:off x="299700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Times New Roman"/>
              </a:rPr>
              <a:t>TÁMOP-4.2.2/B-10/1-2010-0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E8AA-CD0C-45E7-8A54-B4E49B294F90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mailto:tehetseg@mcl.hu" TargetMode="External"/><Relationship Id="rId3" Type="http://schemas.openxmlformats.org/officeDocument/2006/relationships/hyperlink" Target="mailto:tamopiroda@mcl.hu" TargetMode="External"/><Relationship Id="rId4" Type="http://schemas.openxmlformats.org/officeDocument/2006/relationships/hyperlink" Target="mailto:szusza@mcl.hu" TargetMode="External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1558800"/>
            <a:ext cx="9144000" cy="14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Új tehetséggondozó programok és kutatások a Műegyetem tudományos műhelyeibe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zövegdoboz 5"/>
          <p:cNvSpPr/>
          <p:nvPr/>
        </p:nvSpPr>
        <p:spPr>
          <a:xfrm>
            <a:off x="0" y="2882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jekt adminisztratív folyam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zövegdoboz 1"/>
          <p:cNvSpPr/>
          <p:nvPr/>
        </p:nvSpPr>
        <p:spPr>
          <a:xfrm>
            <a:off x="122400" y="326880"/>
            <a:ext cx="6414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UDAPESTI MŰSZAKI ÉS GAZDASÁGTUDOMÁNYI EGYE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GYESÜLT INNOVÁCIÓS ÉS TUDÁSKÖZP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űegyetemi Tudományos Műhelyek és Tehetséggondozás Projektir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zövegdoboz 1"/>
          <p:cNvSpPr/>
          <p:nvPr/>
        </p:nvSpPr>
        <p:spPr>
          <a:xfrm>
            <a:off x="2274840" y="3387600"/>
            <a:ext cx="46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eney Gá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6" descr=""/>
          <p:cNvPicPr/>
          <p:nvPr/>
        </p:nvPicPr>
        <p:blipFill>
          <a:blip r:embed="rId1"/>
          <a:stretch/>
        </p:blipFill>
        <p:spPr>
          <a:xfrm>
            <a:off x="3068640" y="3867120"/>
            <a:ext cx="30132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mit már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megtanultunk: felügye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Minden megrendelés a egy személyen keresztü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Folyamatos ellenőrzés a túl- és alulköltekezés tekinteté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 felelősségi körök elhatárol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Rendszeres találkozók, megbeszélés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Tartalom helye 7" descr="leaky bucket.jpg"/>
          <p:cNvPicPr/>
          <p:nvPr/>
        </p:nvPicPr>
        <p:blipFill>
          <a:blip r:embed="rId1"/>
          <a:stretch/>
        </p:blipFill>
        <p:spPr>
          <a:xfrm>
            <a:off x="4506840" y="2243160"/>
            <a:ext cx="4597560" cy="3448080"/>
          </a:xfrm>
          <a:prstGeom prst="rect">
            <a:avLst/>
          </a:prstGeom>
          <a:ln w="0">
            <a:noFill/>
          </a:ln>
        </p:spPr>
      </p:pic>
      <p:sp>
        <p:nvSpPr>
          <p:cNvPr id="532" name="Élőláb helye 3"/>
          <p:cNvSpPr/>
          <p:nvPr/>
        </p:nvSpPr>
        <p:spPr>
          <a:xfrm>
            <a:off x="299736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Arial"/>
              </a:rPr>
              <a:t>TÁMOP-4.2.2/B10-1/2010-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erde trapéz 8"/>
          <p:cNvSpPr/>
          <p:nvPr/>
        </p:nvSpPr>
        <p:spPr>
          <a:xfrm>
            <a:off x="4300560" y="1959120"/>
            <a:ext cx="5594400" cy="4179600"/>
          </a:xfrm>
          <a:custGeom>
            <a:avLst/>
            <a:gdLst>
              <a:gd name="textAreaLeft" fmla="*/ 0 w 5594400"/>
              <a:gd name="textAreaRight" fmla="*/ 5166720 w 5594400"/>
              <a:gd name="textAreaTop" fmla="*/ 0 h 4179600"/>
              <a:gd name="textAreaBottom" fmla="*/ 3860280 h 4179600"/>
            </a:gdLst>
            <a:ahLst/>
            <a:rect l="textAreaLeft" t="textAreaTop" r="textAreaRight" b="textAreaBottom"/>
            <a:pathLst>
              <a:path w="5595257" h="4180113">
                <a:moveTo>
                  <a:pt x="0" y="3540974"/>
                </a:moveTo>
                <a:lnTo>
                  <a:pt x="4739742" y="0"/>
                </a:lnTo>
                <a:lnTo>
                  <a:pt x="5595257" y="0"/>
                </a:lnTo>
                <a:lnTo>
                  <a:pt x="0" y="418011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118200" cy="708984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843440" y="2238120"/>
            <a:ext cx="430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Példa: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utazási ügyintézé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min most dolgozu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zuperszámítógép beszerzé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Közbeszerzési folya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 specifikáció már kés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zerződésmódosítás / változásbejelentő előkészítése az ESZA fe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Másfél évvel ezelőtt tervezett projekt indult el most szeptember 1-é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Élőláb helye 4"/>
          <p:cNvSpPr/>
          <p:nvPr/>
        </p:nvSpPr>
        <p:spPr>
          <a:xfrm>
            <a:off x="299736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Arial"/>
              </a:rPr>
              <a:t>TÁMOP-4.2.2/B-10/1-2010-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41" name="Élőláb helye 4"/>
          <p:cNvSpPr/>
          <p:nvPr/>
        </p:nvSpPr>
        <p:spPr>
          <a:xfrm>
            <a:off x="3286080" y="6345360"/>
            <a:ext cx="32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Arial"/>
              </a:rPr>
              <a:t>TÁMOP-4.2.2/B-10/1-2010-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Kivo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Felvezető gondolat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Gyors és precíz </a:t>
            </a: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támogató 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ügyintéz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Minimális papírfelhasznál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Minimális papírmun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Folyamatos projektfelügye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ktuális tennivaló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Élőláb helye 3"/>
          <p:cNvSpPr/>
          <p:nvPr/>
        </p:nvSpPr>
        <p:spPr>
          <a:xfrm>
            <a:off x="299736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Arial"/>
              </a:rPr>
              <a:t>TÁMOP-4.2.2/B10-1/2010-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Nyitó gondolat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 projekt menedzsment </a:t>
            </a: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iszolgáló személyz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Segítenünk kell másokat, nem akadályoznu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z adminisztrációt mindenki utá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 lehető legkisebb többletmunkát szabad csak másokra erőltet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Tanulnunk kell a korábbi tapasztalatokbó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„…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Azt akarjuk, hogy a múltban megszerzett erők ne vesszenek el, hanem szárnyat adjanak a mának és segítsenek meghódítani a jövőt; de főként azt, hogy ne kelljen a mának újra és újra megállnia olyan feladatok előtt, amelyeket már a múlt megoldott.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” /Kner Imre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Élőláb helye 3"/>
          <p:cNvSpPr/>
          <p:nvPr/>
        </p:nvSpPr>
        <p:spPr>
          <a:xfrm>
            <a:off x="299736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Arial"/>
              </a:rPr>
              <a:t>TÁMOP-4.2.2/B10-1/2010-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Korrekt kiszolgálá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Tartalom helye 7" descr="waiter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Folyamatos (5x8 órás) rendelkezésre áll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Levelezőlistá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tehetseg@mcl.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amopiroda@mcl.hu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szusza@mcl.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Jól felépített és átlátható szervez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Élőláb helye 3"/>
          <p:cNvSpPr/>
          <p:nvPr/>
        </p:nvSpPr>
        <p:spPr>
          <a:xfrm>
            <a:off x="299736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Arial"/>
              </a:rPr>
              <a:t>TÁMOP-4.2.2/B10-1/2010-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 szerve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8" name="Élőláb helye 4"/>
          <p:cNvSpPr/>
          <p:nvPr/>
        </p:nvSpPr>
        <p:spPr>
          <a:xfrm>
            <a:off x="299736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304920" y="1600200"/>
            <a:ext cx="8523000" cy="3606840"/>
          </a:xfrm>
          <a:prstGeom prst="roundRect">
            <a:avLst>
              <a:gd name="adj" fmla="val 6231"/>
            </a:avLst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508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TM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rojek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r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>
            <a:off x="3483000" y="4146480"/>
            <a:ext cx="2211480" cy="947880"/>
          </a:xfrm>
          <a:prstGeom prst="roundRect">
            <a:avLst>
              <a:gd name="adj" fmla="val 16667"/>
            </a:avLst>
          </a:prstGeom>
          <a:solidFill>
            <a:srgbClr val="00d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36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4"/>
          <p:cNvSpPr/>
          <p:nvPr/>
        </p:nvSpPr>
        <p:spPr>
          <a:xfrm>
            <a:off x="3641760" y="4464000"/>
            <a:ext cx="1893960" cy="4730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364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Ismeretterjesztési</a:t>
            </a:r>
            <a:br>
              <a:rPr sz="1500"/>
            </a:b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felelős Dallos György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5"/>
          <p:cNvSpPr/>
          <p:nvPr/>
        </p:nvSpPr>
        <p:spPr>
          <a:xfrm>
            <a:off x="1771560" y="5410080"/>
            <a:ext cx="1528920" cy="314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364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Kari képviselő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6"/>
          <p:cNvSpPr/>
          <p:nvPr/>
        </p:nvSpPr>
        <p:spPr>
          <a:xfrm>
            <a:off x="1432080" y="5883120"/>
            <a:ext cx="2209680" cy="316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364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Doktori iskolák képviselő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7"/>
          <p:cNvSpPr/>
          <p:nvPr/>
        </p:nvSpPr>
        <p:spPr>
          <a:xfrm>
            <a:off x="3798720" y="5410080"/>
            <a:ext cx="1578240" cy="314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364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HÖK képvisel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8"/>
          <p:cNvSpPr/>
          <p:nvPr/>
        </p:nvSpPr>
        <p:spPr>
          <a:xfrm>
            <a:off x="3798720" y="5883120"/>
            <a:ext cx="1578240" cy="316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364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Szakkollégiumo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9"/>
          <p:cNvSpPr/>
          <p:nvPr/>
        </p:nvSpPr>
        <p:spPr>
          <a:xfrm>
            <a:off x="5535720" y="5410080"/>
            <a:ext cx="2209680" cy="314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364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Egyetemi TDK képvisel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0"/>
          <p:cNvSpPr/>
          <p:nvPr/>
        </p:nvSpPr>
        <p:spPr>
          <a:xfrm>
            <a:off x="5635800" y="5883120"/>
            <a:ext cx="2041200" cy="316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364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Kari TDK képviselő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11"/>
          <p:cNvGrpSpPr/>
          <p:nvPr/>
        </p:nvGrpSpPr>
        <p:grpSpPr>
          <a:xfrm>
            <a:off x="3324240" y="1779480"/>
            <a:ext cx="2525760" cy="946080"/>
            <a:chOff x="3324240" y="1779480"/>
            <a:chExt cx="2525760" cy="946080"/>
          </a:xfrm>
        </p:grpSpPr>
        <p:sp>
          <p:nvSpPr>
            <p:cNvPr id="489" name="AutoShape 12"/>
            <p:cNvSpPr/>
            <p:nvPr/>
          </p:nvSpPr>
          <p:spPr>
            <a:xfrm>
              <a:off x="3324240" y="1779480"/>
              <a:ext cx="2525760" cy="946080"/>
            </a:xfrm>
            <a:prstGeom prst="roundRect">
              <a:avLst>
                <a:gd name="adj" fmla="val 16667"/>
              </a:avLst>
            </a:prstGeom>
            <a:solidFill>
              <a:srgbClr val="00d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53640" bIns="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hu-HU" sz="1500" spc="-1" strike="noStrike">
                  <a:solidFill>
                    <a:srgbClr val="000000"/>
                  </a:solidFill>
                  <a:latin typeface="Arial"/>
                </a:rPr>
                <a:t>Tudományos menedzs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13"/>
            <p:cNvSpPr/>
            <p:nvPr/>
          </p:nvSpPr>
          <p:spPr>
            <a:xfrm>
              <a:off x="3472200" y="2095560"/>
              <a:ext cx="2227320" cy="473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53640" bIns="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hu-HU" sz="1500" spc="-1" strike="noStrike">
                  <a:solidFill>
                    <a:srgbClr val="000000"/>
                  </a:solidFill>
                  <a:latin typeface="Arial"/>
                </a:rPr>
                <a:t>Tudományos Igazgat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hu-HU" sz="1500" spc="-1" strike="noStrike">
                  <a:solidFill>
                    <a:srgbClr val="000000"/>
                  </a:solidFill>
                  <a:latin typeface="Arial"/>
                </a:rPr>
                <a:t>Levendovszky Ján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AutoShape 14"/>
          <p:cNvSpPr/>
          <p:nvPr/>
        </p:nvSpPr>
        <p:spPr>
          <a:xfrm>
            <a:off x="3274920" y="2884320"/>
            <a:ext cx="2575080" cy="947880"/>
          </a:xfrm>
          <a:prstGeom prst="roundRect">
            <a:avLst>
              <a:gd name="adj" fmla="val 16667"/>
            </a:avLst>
          </a:prstGeom>
          <a:solidFill>
            <a:srgbClr val="00d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36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Kontroll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5"/>
          <p:cNvSpPr/>
          <p:nvPr/>
        </p:nvSpPr>
        <p:spPr>
          <a:xfrm>
            <a:off x="3390840" y="3200400"/>
            <a:ext cx="2301840" cy="474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53640" bIns="40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Projektiroda vezet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Hornyánszky Gáb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16"/>
          <p:cNvGrpSpPr/>
          <p:nvPr/>
        </p:nvGrpSpPr>
        <p:grpSpPr>
          <a:xfrm>
            <a:off x="6006960" y="3516480"/>
            <a:ext cx="2524320" cy="1576080"/>
            <a:chOff x="6006960" y="3516480"/>
            <a:chExt cx="2524320" cy="1576080"/>
          </a:xfrm>
        </p:grpSpPr>
        <p:sp>
          <p:nvSpPr>
            <p:cNvPr id="494" name="AutoShape 17"/>
            <p:cNvSpPr/>
            <p:nvPr/>
          </p:nvSpPr>
          <p:spPr>
            <a:xfrm>
              <a:off x="6006960" y="3516480"/>
              <a:ext cx="2524320" cy="1576080"/>
            </a:xfrm>
            <a:prstGeom prst="roundRect">
              <a:avLst>
                <a:gd name="adj" fmla="val 16667"/>
              </a:avLst>
            </a:prstGeom>
            <a:solidFill>
              <a:srgbClr val="00d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53640" bIns="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hu-HU" sz="1500" spc="-1" strike="noStrike">
                  <a:solidFill>
                    <a:srgbClr val="000000"/>
                  </a:solidFill>
                  <a:latin typeface="Arial"/>
                </a:rPr>
                <a:t>Pénzügye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18"/>
            <p:cNvSpPr/>
            <p:nvPr/>
          </p:nvSpPr>
          <p:spPr>
            <a:xfrm>
              <a:off x="6175080" y="3831480"/>
              <a:ext cx="2187360" cy="472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53640" bIns="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hu-HU" sz="1500" spc="-1" strike="noStrike">
                  <a:solidFill>
                    <a:srgbClr val="000000"/>
                  </a:solidFill>
                  <a:latin typeface="Arial"/>
                </a:rPr>
                <a:t>Pénzügyi igazgat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hu-HU" sz="1500" spc="-1" strike="noStrike">
                  <a:solidFill>
                    <a:srgbClr val="000000"/>
                  </a:solidFill>
                  <a:latin typeface="Arial"/>
                </a:rPr>
                <a:t>Szikszay Judi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19"/>
            <p:cNvSpPr/>
            <p:nvPr/>
          </p:nvSpPr>
          <p:spPr>
            <a:xfrm>
              <a:off x="6175080" y="4462200"/>
              <a:ext cx="2187360" cy="473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53640" bIns="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hu-HU" sz="1500" spc="-1" strike="noStrike">
                  <a:solidFill>
                    <a:srgbClr val="000000"/>
                  </a:solidFill>
                  <a:latin typeface="Arial"/>
                </a:rPr>
                <a:t>Pénzügyi assziszten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hu-HU" sz="1500" spc="-1" strike="noStrike">
                  <a:solidFill>
                    <a:srgbClr val="000000"/>
                  </a:solidFill>
                  <a:latin typeface="Arial"/>
                </a:rPr>
                <a:t>Horváth Andre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Line 20"/>
          <p:cNvSpPr/>
          <p:nvPr/>
        </p:nvSpPr>
        <p:spPr>
          <a:xfrm>
            <a:off x="2535120" y="5724360"/>
            <a:ext cx="180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1"/>
          <p:cNvSpPr/>
          <p:nvPr/>
        </p:nvSpPr>
        <p:spPr>
          <a:xfrm>
            <a:off x="4587840" y="5724360"/>
            <a:ext cx="180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2"/>
          <p:cNvSpPr/>
          <p:nvPr/>
        </p:nvSpPr>
        <p:spPr>
          <a:xfrm>
            <a:off x="6640560" y="572436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3"/>
          <p:cNvSpPr/>
          <p:nvPr/>
        </p:nvSpPr>
        <p:spPr>
          <a:xfrm>
            <a:off x="5850000" y="3357720"/>
            <a:ext cx="79056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4"/>
          <p:cNvSpPr/>
          <p:nvPr/>
        </p:nvSpPr>
        <p:spPr>
          <a:xfrm>
            <a:off x="4587840" y="2727360"/>
            <a:ext cx="180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5"/>
          <p:cNvSpPr/>
          <p:nvPr/>
        </p:nvSpPr>
        <p:spPr>
          <a:xfrm flipH="1">
            <a:off x="1589040" y="3989520"/>
            <a:ext cx="79056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26"/>
          <p:cNvGrpSpPr/>
          <p:nvPr/>
        </p:nvGrpSpPr>
        <p:grpSpPr>
          <a:xfrm>
            <a:off x="642960" y="3516480"/>
            <a:ext cx="2523960" cy="1576080"/>
            <a:chOff x="642960" y="3516480"/>
            <a:chExt cx="2523960" cy="1576080"/>
          </a:xfrm>
        </p:grpSpPr>
        <p:sp>
          <p:nvSpPr>
            <p:cNvPr id="504" name="AutoShape 27"/>
            <p:cNvSpPr/>
            <p:nvPr/>
          </p:nvSpPr>
          <p:spPr>
            <a:xfrm>
              <a:off x="642960" y="3516480"/>
              <a:ext cx="2523960" cy="1576080"/>
            </a:xfrm>
            <a:prstGeom prst="roundRect">
              <a:avLst>
                <a:gd name="adj" fmla="val 16667"/>
              </a:avLst>
            </a:prstGeom>
            <a:solidFill>
              <a:srgbClr val="00d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53640" bIns="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hu-HU" sz="1500" spc="-1" strike="noStrike">
                  <a:solidFill>
                    <a:srgbClr val="000000"/>
                  </a:solidFill>
                  <a:latin typeface="Arial"/>
                </a:rPr>
                <a:t>Projekt menedzs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28"/>
            <p:cNvSpPr/>
            <p:nvPr/>
          </p:nvSpPr>
          <p:spPr>
            <a:xfrm>
              <a:off x="811080" y="3831480"/>
              <a:ext cx="2187000" cy="472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53640" bIns="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hu-HU" sz="1500" spc="-1" strike="noStrike">
                  <a:solidFill>
                    <a:srgbClr val="000000"/>
                  </a:solidFill>
                  <a:latin typeface="Arial"/>
                </a:rPr>
                <a:t>Projekt menedzs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hu-HU" sz="1500" spc="-1" strike="noStrike">
                  <a:solidFill>
                    <a:srgbClr val="000000"/>
                  </a:solidFill>
                  <a:latin typeface="Arial"/>
                </a:rPr>
                <a:t>Jeney Gáb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9"/>
            <p:cNvSpPr/>
            <p:nvPr/>
          </p:nvSpPr>
          <p:spPr>
            <a:xfrm>
              <a:off x="811080" y="4462200"/>
              <a:ext cx="2187000" cy="4730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53640" bIns="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hu-HU" sz="1500" spc="-1" strike="noStrike">
                  <a:solidFill>
                    <a:srgbClr val="000000"/>
                  </a:solidFill>
                  <a:latin typeface="Arial"/>
                </a:rPr>
                <a:t>Adminisztratív assziszten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hu-HU" sz="1500" spc="-1" strike="noStrike">
                  <a:solidFill>
                    <a:srgbClr val="000000"/>
                  </a:solidFill>
                  <a:latin typeface="Arial"/>
                </a:rPr>
                <a:t>Juhász Ágn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Line 30"/>
          <p:cNvSpPr/>
          <p:nvPr/>
        </p:nvSpPr>
        <p:spPr>
          <a:xfrm>
            <a:off x="3009960" y="4146480"/>
            <a:ext cx="63180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31"/>
          <p:cNvSpPr/>
          <p:nvPr/>
        </p:nvSpPr>
        <p:spPr>
          <a:xfrm flipH="1">
            <a:off x="2533680" y="3357720"/>
            <a:ext cx="79200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32"/>
          <p:cNvSpPr/>
          <p:nvPr/>
        </p:nvSpPr>
        <p:spPr>
          <a:xfrm>
            <a:off x="3009960" y="3989520"/>
            <a:ext cx="3155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33"/>
          <p:cNvSpPr/>
          <p:nvPr/>
        </p:nvSpPr>
        <p:spPr>
          <a:xfrm>
            <a:off x="2379600" y="5094360"/>
            <a:ext cx="157320" cy="31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34"/>
          <p:cNvSpPr/>
          <p:nvPr/>
        </p:nvSpPr>
        <p:spPr>
          <a:xfrm>
            <a:off x="2535120" y="5094360"/>
            <a:ext cx="2052720" cy="31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5"/>
          <p:cNvSpPr/>
          <p:nvPr/>
        </p:nvSpPr>
        <p:spPr>
          <a:xfrm>
            <a:off x="3009960" y="5094360"/>
            <a:ext cx="3630600" cy="31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mit már 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megtanultunk: a papí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 papír mindig több helyet foglal mint az elektronikus fo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Elektronikus anyagban könnyebb keresni, mint papír alap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 mai gázárak mellett a fát inkább tüzelőnek kell használnunk, mint a papír alapanyagaké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Tartalom helye 5" descr="desk-with-pile-of-papers.jpg"/>
          <p:cNvPicPr/>
          <p:nvPr/>
        </p:nvPicPr>
        <p:blipFill>
          <a:blip r:embed="rId1"/>
          <a:stretch/>
        </p:blipFill>
        <p:spPr>
          <a:xfrm>
            <a:off x="4605480" y="1600200"/>
            <a:ext cx="4386240" cy="4525920"/>
          </a:xfrm>
          <a:prstGeom prst="rect">
            <a:avLst/>
          </a:prstGeom>
          <a:ln w="0">
            <a:noFill/>
          </a:ln>
        </p:spPr>
      </p:pic>
      <p:sp>
        <p:nvSpPr>
          <p:cNvPr id="516" name="Élőláb helye 4"/>
          <p:cNvSpPr/>
          <p:nvPr/>
        </p:nvSpPr>
        <p:spPr>
          <a:xfrm>
            <a:off x="299736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Arial"/>
              </a:rPr>
              <a:t>TÁMOP-4.2.2/B-10/1-2010-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erde trapéz 6"/>
          <p:cNvSpPr/>
          <p:nvPr/>
        </p:nvSpPr>
        <p:spPr>
          <a:xfrm>
            <a:off x="4300560" y="1459080"/>
            <a:ext cx="5594400" cy="4930560"/>
          </a:xfrm>
          <a:custGeom>
            <a:avLst/>
            <a:gdLst>
              <a:gd name="textAreaLeft" fmla="*/ 0 w 5594400"/>
              <a:gd name="textAreaRight" fmla="*/ 5166720 w 5594400"/>
              <a:gd name="textAreaTop" fmla="*/ 0 h 4930560"/>
              <a:gd name="textAreaBottom" fmla="*/ 4553640 h 4930560"/>
            </a:gdLst>
            <a:ahLst/>
            <a:rect l="textAreaLeft" t="textAreaTop" r="textAreaRight" b="textAreaBottom"/>
            <a:pathLst>
              <a:path w="5595257" h="4931227">
                <a:moveTo>
                  <a:pt x="0" y="4177243"/>
                </a:moveTo>
                <a:lnTo>
                  <a:pt x="4739742" y="0"/>
                </a:lnTo>
                <a:lnTo>
                  <a:pt x="5595257" y="0"/>
                </a:lnTo>
                <a:lnTo>
                  <a:pt x="0" y="493122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Első tétel: 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minimális papírfelhasználá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Minden anyag lehetőség szerint elektronikus formában legy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z aláírandó lapokból kell csak papír alap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Egyetlen oldal egy példányban kifizetésenké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 belső kommunikációhoz lapolvasott (elektronikus) változat (jóval gyorsabb 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ajnos a környezetünk még másképp gondo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Egyetemi belső szabály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ESZA szabályok (pl. a PEJ-jel kapcsolatba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Élőláb helye 4"/>
          <p:cNvSpPr/>
          <p:nvPr/>
        </p:nvSpPr>
        <p:spPr>
          <a:xfrm>
            <a:off x="299736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Arial"/>
              </a:rPr>
              <a:t>TÁMOP-4.2.2/B-10/1-2010-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mit már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megtanultunk: bürokrá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1600200"/>
            <a:ext cx="366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z ügyintézésn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Gyorsn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Hatékonyn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Észrevehetetlennek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ell len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 hivatalos jelleg mellőzhet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Tartalom helye 6" descr="bureaucracy.jpg"/>
          <p:cNvPicPr/>
          <p:nvPr/>
        </p:nvPicPr>
        <p:blipFill>
          <a:blip r:embed="rId1"/>
          <a:stretch/>
        </p:blipFill>
        <p:spPr>
          <a:xfrm>
            <a:off x="4191120" y="1886040"/>
            <a:ext cx="4952880" cy="3954240"/>
          </a:xfrm>
          <a:prstGeom prst="rect">
            <a:avLst/>
          </a:prstGeom>
          <a:ln w="0">
            <a:noFill/>
          </a:ln>
        </p:spPr>
      </p:pic>
      <p:sp>
        <p:nvSpPr>
          <p:cNvPr id="524" name="Élőláb helye 3"/>
          <p:cNvSpPr/>
          <p:nvPr/>
        </p:nvSpPr>
        <p:spPr>
          <a:xfrm>
            <a:off x="299736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Arial"/>
              </a:rPr>
              <a:t>TÁMOP-4.2.2/B10-1/2010-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erde trapéz 7"/>
          <p:cNvSpPr/>
          <p:nvPr/>
        </p:nvSpPr>
        <p:spPr>
          <a:xfrm>
            <a:off x="3940200" y="1741320"/>
            <a:ext cx="5954760" cy="4397400"/>
          </a:xfrm>
          <a:custGeom>
            <a:avLst/>
            <a:gdLst>
              <a:gd name="textAreaLeft" fmla="*/ 0 w 5954760"/>
              <a:gd name="textAreaRight" fmla="*/ 5499720 w 5954760"/>
              <a:gd name="textAreaTop" fmla="*/ 0 h 4397400"/>
              <a:gd name="textAreaBottom" fmla="*/ 4061520 h 4397400"/>
            </a:gdLst>
            <a:ahLst/>
            <a:rect l="textAreaLeft" t="textAreaTop" r="textAreaRight" b="textAreaBottom"/>
            <a:pathLst>
              <a:path w="5954484" h="4397828">
                <a:moveTo>
                  <a:pt x="0" y="3725400"/>
                </a:moveTo>
                <a:lnTo>
                  <a:pt x="5044044" y="0"/>
                </a:lnTo>
                <a:lnTo>
                  <a:pt x="5954484" y="0"/>
                </a:lnTo>
                <a:lnTo>
                  <a:pt x="0" y="439782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Második tétel: 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minimális papírmun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Egyetlen oldal egy példányban kifizetésenké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 belső kommunikációhoz lapolvasott (elektronikus) változat (jóval gyorsabb 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 környezet felé szükséges papírmunkát mi átvállalj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Erőforrás igényesnek tűnik, de valójában erőforrást takaríthatunk meg ve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mit lehet szabad formátumban kérü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Élőláb helye 4"/>
          <p:cNvSpPr/>
          <p:nvPr/>
        </p:nvSpPr>
        <p:spPr>
          <a:xfrm>
            <a:off x="2997360" y="6356520"/>
            <a:ext cx="32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898989"/>
                </a:solidFill>
                <a:latin typeface="Arial"/>
              </a:rPr>
              <a:t>TÁMOP-4.2.2/B-10/1-2010-0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3:35:31Z</dcterms:created>
  <dc:creator>Nagy Bence</dc:creator>
  <dc:description/>
  <dc:language>en-US</dc:language>
  <cp:lastModifiedBy>Jeney Gábor</cp:lastModifiedBy>
  <dcterms:modified xsi:type="dcterms:W3CDTF">2011-10-07T07:37:36Z</dcterms:modified>
  <cp:revision>278</cp:revision>
  <dc:subject/>
  <dc:title>1. dia</dc:title>
</cp:coreProperties>
</file>