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F42A-EC0D-4308-8E93-6EBBA06B93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1848-D93A-4ECF-9246-7927E6E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33C8-DCB5-4B3B-BA5B-B865639E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187C-4A52-4F71-BE59-44AC4F75A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EDBD-AB80-4D6E-83EC-35C7D6E9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836E-3AFB-4E3A-A5E2-392E8E0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A500-1E62-4725-9392-EC72853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DC9E-28FC-445F-8218-61C05524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23FC-BBDB-4913-A194-F424E2C4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B0AC-2363-417D-9AD2-24B6D837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2A43-3352-49B8-8523-A9405F31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FFE0-7129-46FB-AE43-A21643EF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6E8-C4DA-4C57-95B4-A66F1A737328}" type="slidenum">
              <a:rPr b="0" lang="hu-H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Új tehetséggondozó programok és kutatások a Műegyetem tudományos műhelyeiben”,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ÁMOP-4.2.2/B-10/1-2010-0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zövegdoboz 1"/>
          <p:cNvSpPr/>
          <p:nvPr/>
        </p:nvSpPr>
        <p:spPr>
          <a:xfrm>
            <a:off x="122400" y="326880"/>
            <a:ext cx="64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GYESÜLT INNOVÁCIÓS ÉS TUDÁS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űegyetemi Tudományos Műhelyek és Tehetséggondozás Projekti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8153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ktori köszöntő – Péceli Gábor r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udományos kutatások és tehetséggondozás a BME-n – Levendovszky János, a projekt  tudományos vezető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jekt működése és szervezeti felépítése – Hornyánszky Gábor, az MTMT projektiroda vezető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jekt adminisztratív folyamatai – Jeney Gábor  projektmendz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hetséggondozás fontossága és szerepe a hazai tudományos életben –Kroó Norbert, akadémikus, az Európai Tudományos Tanács tag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22:50:05Z</dcterms:created>
  <dc:creator>Levendovszky János</dc:creator>
  <dc:description/>
  <dc:language>en-US</dc:language>
  <cp:lastModifiedBy>Levendovszky János</cp:lastModifiedBy>
  <dcterms:modified xsi:type="dcterms:W3CDTF">2011-10-06T22:51:00Z</dcterms:modified>
  <cp:revision>2</cp:revision>
  <dc:subject/>
  <dc:title>„Új tehetséggondozó programok és kutatások a Műegyetem tudományos műhelyeiben”, TÁMOP-4.2.2/B-10/1-2010-0009</dc:title>
</cp:coreProperties>
</file>